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C3EC-1722-43EE-9C95-19B2AE0C97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soon experienced the analysis of rare cancers with data providing for different cancers regi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 met difficulties specifically linked to this reg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my opinion, two situations have to be avoid: missing cases and including false rare canc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my experience, well trained technicians in registries do not have many difficulties to identify pathologic records different to the usual ones. The difficulty lies in the attribution of the good corresponding ICD-O morphological code given the fact tha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ly, population-based pathologists are not expert in rare cancers so that their conclusions may be often long and uneasy to understand for thes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ly, there is a very long list of available possible ICD-O codes and it may be not easy to disentangle between them how to choose the good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for example, I was interested in the analysis of the incidence of angiosarcoma of liver, which are very rare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are estimations of their frequency account for around 200 new cases per year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ous morphologic code have been used in the rare previous publications. Here are that presented by the IARC, corresponding to the haemangiosarcoma of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clude codes 9120 to 9133 and the 91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list of available codes for technician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det may confounding both numerous possible codes and difficulties in determining the correct behaviour of the tum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an illusratio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t was what we experienced when we analysed the Eurocare data base: some registries did record non malignant tumours and others presented heterogeneity in the codification of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sult was an heterogeneous database, between countries or even between registries in the sam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8F5-2F05-4416-B0F7-717FA96C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0E5-2D4C-4FC3-82FB-7068B55E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385-240A-41B0-8F01-A0C80EF8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5DA-2FCB-4EC3-AB08-460D5216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5F7-FC27-4F66-958A-C6C5EA40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C33-F393-4229-9BF8-C32179A2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FA2-0080-43C5-8085-6FB01C74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5BA-94F1-40CC-B719-48FAD3F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6F7-59DB-4049-ABA8-580F952E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344-3153-4392-B356-3A1C967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879-3416-47AD-A69E-9A533446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F2C-107C-40EA-9E74-B4EE949E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455A-A77B-4173-85EE-7F52B22AB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iculties for the analysis of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are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issing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angiosarcoma of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ncluding fal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malignant digestive endocrine tum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5228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ample :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colon cancer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igh frequency of </a:t>
            </a:r>
            <a:r>
              <a:rPr b="0" lang="fr-FR" sz="2000" spc="-1" strike="noStrike">
                <a:solidFill>
                  <a:srgbClr val="006600"/>
                </a:solidFill>
                <a:latin typeface="Comic Sans MS"/>
              </a:rPr>
              <a:t>appendix mdet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sually ben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98000" cy="5450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48520" y="1600200"/>
            <a:ext cx="761760" cy="380880"/>
          </a:xfrm>
          <a:prstGeom prst="wedgeEllipseCallout">
            <a:avLst>
              <a:gd name="adj1" fmla="val -62291"/>
              <a:gd name="adj2" fmla="val 88750"/>
            </a:avLst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114800"/>
            <a:ext cx="761760" cy="380880"/>
          </a:xfrm>
          <a:prstGeom prst="wedgeEllipseCallout">
            <a:avLst>
              <a:gd name="adj1" fmla="val -63958"/>
              <a:gd name="adj2" fmla="val 78750"/>
            </a:avLst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410080"/>
            <a:ext cx="838440" cy="381240"/>
          </a:xfrm>
          <a:prstGeom prst="wedgeEllipseCallout">
            <a:avLst>
              <a:gd name="adj1" fmla="val -73296"/>
              <a:gd name="adj2" fmla="val 52083"/>
            </a:avLst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1981080"/>
            <a:ext cx="761760" cy="381240"/>
          </a:xfrm>
          <a:prstGeom prst="wedgeEllipseCallout">
            <a:avLst>
              <a:gd name="adj1" fmla="val 67708"/>
              <a:gd name="adj2" fmla="val 52083"/>
            </a:avLst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4600" y="63244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9933"/>
                </a:solidFill>
                <a:latin typeface="Comic Sans MS"/>
              </a:rPr>
              <a:t>Eurocare, 1985-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791320" cy="5734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52280"/>
            <a:ext cx="868680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ample :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mde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uroca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ormation on the </a:t>
            </a:r>
            <a:r>
              <a:rPr b="0" lang="fr-FR" sz="2000" spc="-1" strike="noStrike">
                <a:solidFill>
                  <a:srgbClr val="006600"/>
                </a:solidFill>
                <a:latin typeface="Comic Sans MS"/>
              </a:rPr>
              <a:t>differentia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majo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ronostic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791320" cy="5734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52280"/>
            <a:ext cx="868680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ample :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mde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uroca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ormation on the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differenti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major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gnostic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2590920"/>
            <a:ext cx="914400" cy="2286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562720"/>
            <a:ext cx="914400" cy="2286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osal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fore the final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ensure that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mogenous rul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re used between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6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ompa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ncidence and relative survival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subs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morpholog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period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order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to mark possible dispariti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n the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between registries in the same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a need to ask each registry their rules of codification before analysing rare cancer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iculties for the technicia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record rare cancer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Unusual morphology in pathologic records seems commonly easy to identify for tech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Pathologists themselves are not experts in these cancer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conclusion of their reports may often be not cl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It may be difficult to identify the morphologic code corresponding to the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5971" t="14797" r="16464" b="18104"/>
          <a:stretch/>
        </p:blipFill>
        <p:spPr>
          <a:xfrm>
            <a:off x="457200" y="579600"/>
            <a:ext cx="7848720" cy="627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6019920"/>
            <a:ext cx="8610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IARC SCIENTIFIC PUBLICATIONS, 1997 Chapter 4. Histological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D.M. Parkin, J. Ferlay, K. Shanmugaratnam, L. Sobin, L. Teppo and S.L. Whe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962520"/>
            <a:ext cx="1447920" cy="228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2280"/>
            <a:ext cx="914400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angiosarcoma of liv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 very rare and not well kn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rious codes in the literature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00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nual new cases per yea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 : How to choose the good code for angiosarcoma of liv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172200"/>
            <a:ext cx="838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Survival from rare cancer in adults: a population-based study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The Lancet Oncology, 200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80552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 : How to choose the good code for angiosarcoma of liv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172200"/>
            <a:ext cx="838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Survival from rare cancer in adults: a population-based study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The Lancet Oncology, 200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805520" cy="4684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411480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48640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Propos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for rare ca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dentification in the database of rare cancers by a inedited specific code (XXX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cise codification of the morphologic code in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eco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variable after validation by a pathologist and/or a clin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aims in 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  improvement in the identification and th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raction of rare ca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mprovement in the quality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Malignant digestive endocrine tumour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d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t so rare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0.8/100 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fficulti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ith the rules of cod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terogeneity of this group of cancer arising from diverse site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istinguish between benign and malignant tum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nges in the classification over tim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990720"/>
          <a:ext cx="8458200" cy="5195880"/>
        </p:xfrm>
        <a:graphic>
          <a:graphicData uri="http://schemas.openxmlformats.org/drawingml/2006/table">
            <a:tbl>
              <a:tblPr/>
              <a:tblGrid>
                <a:gridCol w="1469880"/>
                <a:gridCol w="1789200"/>
                <a:gridCol w="1863720"/>
                <a:gridCol w="1862280"/>
                <a:gridCol w="14731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Well differentiated benign 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Well 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borderline 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Well 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endocrine carcino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undifferentiated endocrine carcino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3300"/>
                          </a:solidFill>
                          <a:latin typeface="Comic Sans MS"/>
                          <a:ea typeface="Arial"/>
                        </a:rPr>
                        <a:t>Differenc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Well 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Well 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Well 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Un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Angioinva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Comic Sans MS"/>
                          <a:ea typeface="Arial"/>
                        </a:rPr>
                        <a:t>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tomach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mall intestine: </a:t>
                      </a:r>
                      <a:r>
                        <a:rPr b="0" lang="en-GB" sz="12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Arial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 1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Appendix, colon, rectum : </a:t>
                      </a:r>
                      <a:r>
                        <a:rPr b="0" lang="en-GB" sz="12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Arial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 2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&lt; 2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tomach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mall intestine : &gt;1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Appendix, colon, rectum : &gt; 2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</a:t>
                      </a:r>
                      <a:r>
                        <a:rPr b="0" lang="en-GB" sz="12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Arial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 2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tomach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mall intestine : &gt;1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Appendix, colon, rectum : &gt; 2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&gt;3 c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Mitotic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Arial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 &gt;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2 to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&gt;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roliferation Index (Ki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Arial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 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often &gt; 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2 to 1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&gt; 1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local invas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Digestive tumour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mucosae/submucos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intra-pancrea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Digestive tumour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mucosae/muscularis prop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intra-pancrea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Digestive tumour (out appendix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&gt; Muscularis prop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Appendix : invasion of the visceral peritone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extra-pancreatic exten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Metast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657600" y="838080"/>
            <a:ext cx="0" cy="5715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6324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Behaviour :  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det : difficulties with the rules of c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52280"/>
            <a:ext cx="89917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ample :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colon cancer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igh frequency of </a:t>
            </a:r>
            <a:r>
              <a:rPr b="0" lang="fr-FR" sz="2000" spc="-1" strike="noStrike">
                <a:solidFill>
                  <a:srgbClr val="006600"/>
                </a:solidFill>
                <a:latin typeface="Comic Sans MS"/>
              </a:rPr>
              <a:t>appendix mdet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sually ben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98000" cy="545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4600" y="63244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9933"/>
                </a:solidFill>
                <a:latin typeface="Comic Sans MS"/>
              </a:rPr>
              <a:t>Eurocare, 1985-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e-marie</cp:lastModifiedBy>
  <dcterms:modified xsi:type="dcterms:W3CDTF">2009-03-23T08:49:04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