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9A8D-36C7-47BE-83EC-AAFD166C39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soon experienced the analysis of rare cancers with data providing for different cancers regi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 met difficulties specifically linked to this reg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opinion, two situations have to be avoid: missing cases and including false rare canc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my experience, well trained technicians in registries do not have many difficulties to identify pathologic records different to the usual ones. The difficulty lies in the attribution of the good corresponding ICD-O morphological code given the fact tha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ly, population-based pathologists are not expert in rare cancers so that their conclusions may be often long and uneasy to understand for the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ly, there is a very long list of available possible ICD-O codes and it may be not easy to disentangle between them how to choose the good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for example, I was interested in the analysis of the incidence of angiosarcoma of liver, which are very rare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are estimations of their frequency account for around 200 new cases per year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ous morphologic code have been used in the rare previous publications. Here are that presented by the IARC, corresponding to the haemangiosarcoma of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clude codes 9120 to 9133 and the 91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list of available codes for technician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et may confounding both numerous possible codes and difficulties in determining the correct behaviour of the tum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n illusratio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was what we experienced when we analysed the Eurocare data base: some registries did record non malignant tumours and others presented heterogeneity in the codification of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sult was an heterogeneous database, between countries or even between registries in the sam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426-CC7D-40D4-8511-6AF3285F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254-B24C-4965-B520-F62A643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3A0-37DB-4345-8F4D-8EB07E38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592-3D74-4608-982D-10363436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3ED-1719-410E-ACA4-0983AC0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DA6-68E2-41C6-9B42-CAEE83B0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85E-9D2D-4BCA-B5EA-DF033E92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4F1-F5B3-4FF6-ABB4-55AAFFB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EBB-2BA7-49B1-BDA7-A1944741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68E-D5FB-445F-9F3B-2D99302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2F4-169A-4204-AB2A-2CC2319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664-AF09-45EE-827F-ADA521F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B6D2-BC9E-4983-9911-77699428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iculties for the analysis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r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issing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angiosarcoma of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ncluding fal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malignant digestive endocrine tum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5228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lon cancer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igh frequency of </a:t>
            </a:r>
            <a:r>
              <a:rPr b="0" lang="fr-FR" sz="2000" spc="-1" strike="noStrike">
                <a:solidFill>
                  <a:srgbClr val="006600"/>
                </a:solidFill>
                <a:latin typeface="Comic Sans MS"/>
              </a:rPr>
              <a:t>appendix mdet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sually ben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98000" cy="5450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1600200"/>
            <a:ext cx="761760" cy="380880"/>
          </a:xfrm>
          <a:prstGeom prst="wedgeEllipseCallout">
            <a:avLst>
              <a:gd name="adj1" fmla="val -62291"/>
              <a:gd name="adj2" fmla="val 88750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114800"/>
            <a:ext cx="761760" cy="380880"/>
          </a:xfrm>
          <a:prstGeom prst="wedgeEllipseCallout">
            <a:avLst>
              <a:gd name="adj1" fmla="val -63958"/>
              <a:gd name="adj2" fmla="val 78750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410080"/>
            <a:ext cx="838440" cy="381240"/>
          </a:xfrm>
          <a:prstGeom prst="wedgeEllipseCallout">
            <a:avLst>
              <a:gd name="adj1" fmla="val -73296"/>
              <a:gd name="adj2" fmla="val 52083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1981080"/>
            <a:ext cx="761760" cy="381240"/>
          </a:xfrm>
          <a:prstGeom prst="wedgeEllipseCallout">
            <a:avLst>
              <a:gd name="adj1" fmla="val 67708"/>
              <a:gd name="adj2" fmla="val 52083"/>
            </a:avLst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4600" y="63244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933"/>
                </a:solidFill>
                <a:latin typeface="Comic Sans MS"/>
              </a:rPr>
              <a:t>Eurocare, 1985-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91320" cy="5734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280"/>
            <a:ext cx="8686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md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uroca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rmation on the </a:t>
            </a:r>
            <a:r>
              <a:rPr b="0" lang="fr-FR" sz="2000" spc="-1" strike="noStrike">
                <a:solidFill>
                  <a:srgbClr val="006600"/>
                </a:solidFill>
                <a:latin typeface="Comic Sans MS"/>
              </a:rPr>
              <a:t>differenti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majo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ronostic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91320" cy="5734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686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md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uroca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rmation on the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differenti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majo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gnostic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2590920"/>
            <a:ext cx="91440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562720"/>
            <a:ext cx="914400" cy="2286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osal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fore the final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ensure that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mogenous rul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e used between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6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ompa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cidence and relative survival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sub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morpholog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period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order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to mark possible dispariti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 th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between registries in the sam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a need to ask each registry their rules of codification before analysing rare cancer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iculties for the technicia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cord rare cancer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Unusual morphology in pathologic records seems commonly easy to identify for 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Pathologists themselves are not experts in these cancer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conclusion of their reports may often be not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It may be difficult to identify the morphologic code corresponding to the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5971" t="14797" r="16464" b="18104"/>
          <a:stretch/>
        </p:blipFill>
        <p:spPr>
          <a:xfrm>
            <a:off x="457200" y="579600"/>
            <a:ext cx="7848720" cy="627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019920"/>
            <a:ext cx="8610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IARC SCIENTIFIC PUBLICATIONS, 1997 Chapter 4. Histological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D.M. Parkin, J. Ferlay, K. Shanmugaratnam, L. Sobin, L. Teppo and S.L. Whe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962520"/>
            <a:ext cx="1447920" cy="228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280"/>
            <a:ext cx="914400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angiosarcoma of li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very rare and not well 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ous codes in the literature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00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nual new cases per yea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 : How to choose the good code for angiosarcoma of liv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17220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Survival from rare cancer in adults: a population-based study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The Lancet Oncology, 200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8055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 : How to choose the good code for angiosarcoma of liv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17220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Survival from rare cancer in adults: a population-based study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The Lancet Oncology, 200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805520" cy="4684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41148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48640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Propos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for rare ca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dentification in the database of rare cancers by a inedited specific code (XXX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cise codification of the morphologic code in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eco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variable after validation by a pathologist and/or a clin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aims in 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  improvement in the identification and 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raction of rare ca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provement in the quality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Malignant digestive endocrine tumour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d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t so rar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0.8/100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fficulti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ith the rules of cod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terogeneity of this group of cancer arising from diverse site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istinguish between benign and malignant tum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nges in the classification over tim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990720"/>
          <a:ext cx="8458200" cy="5195880"/>
        </p:xfrm>
        <a:graphic>
          <a:graphicData uri="http://schemas.openxmlformats.org/drawingml/2006/table">
            <a:tbl>
              <a:tblPr/>
              <a:tblGrid>
                <a:gridCol w="1469880"/>
                <a:gridCol w="1789200"/>
                <a:gridCol w="1863720"/>
                <a:gridCol w="1862280"/>
                <a:gridCol w="14731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Well differentiated benign 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borderline 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endocrine carci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6600"/>
                          </a:solidFill>
                          <a:latin typeface="Comic Sans MS"/>
                          <a:ea typeface="Arial"/>
                        </a:rPr>
                        <a:t>undifferentiated endocrine carci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3300"/>
                          </a:solidFill>
                          <a:latin typeface="Comic Sans MS"/>
                          <a:ea typeface="Arial"/>
                        </a:rPr>
                        <a:t>Differen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Well 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Undifferen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ngioinva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Comic Sans MS"/>
                          <a:ea typeface="Arial"/>
                        </a:rPr>
                        <a:t>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toma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mall intestine: </a:t>
                      </a: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1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, colon, rectum : </a:t>
                      </a: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&lt;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toma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mall intestine : &gt;1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, colon, rectum : &gt;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</a:t>
                      </a: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g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toma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Small intestine : &gt;1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, colon, rectum : &gt; 2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&gt;3 c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itotic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 &gt;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2 to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&gt;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roliferation Index (Ki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Arial"/>
                        </a:rPr>
                        <a:t>&lt;</a:t>
                      </a: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 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often &gt; 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2 to 1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&gt; 1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local inva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Digestive tumour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ucosae/submucos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intra-pancrea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Digestive tumour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ucosae/muscularis prop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intra-pancrea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Digestive tumour (out appendix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&gt; Muscularis prop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Appendix : invasion of the visceral peritone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ancreas : extra-pancreatic exte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ece9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Metast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ece9d8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Comic Sans MS"/>
                          <a:ea typeface="Arial"/>
                        </a:rPr>
                        <a:t>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ce9d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ce9d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57600" y="838080"/>
            <a:ext cx="0" cy="5715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ehaviour :  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det : difficulties with the rules of c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52280"/>
            <a:ext cx="89917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ample :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lon cancer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igh frequency of </a:t>
            </a:r>
            <a:r>
              <a:rPr b="0" lang="fr-FR" sz="2000" spc="-1" strike="noStrike">
                <a:solidFill>
                  <a:srgbClr val="006600"/>
                </a:solidFill>
                <a:latin typeface="Comic Sans MS"/>
              </a:rPr>
              <a:t>appendix mdet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sually ben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98000" cy="545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4600" y="63244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933"/>
                </a:solidFill>
                <a:latin typeface="Comic Sans MS"/>
              </a:rPr>
              <a:t>Eurocare, 1985-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e-marie</cp:lastModifiedBy>
  <dcterms:modified xsi:type="dcterms:W3CDTF">2009-03-23T08:49:04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