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B81-BE7A-4700-AF02-32FC923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55E-2B4B-49EA-AB41-20E773A3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C97-D87E-41F7-ACD3-EA5ECABE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357-76B0-4259-AD77-7C4C27A0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B04-CEC5-4755-A53E-FA0C3F2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ACA-D51B-42AE-8DC2-2F1EFDF2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51A-ECBB-41D4-919D-05D9AF9C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68F-6A1D-46D5-8ABF-B64C1A9E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382-7427-4123-962E-9736EB6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870-F382-4655-AAB3-86B8559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29C-87A3-44BF-A17D-285D6FC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DDF-8399-49BF-9C94-1AEF3A24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F98-0A54-45F7-BB48-A0A8D374AE4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scriptive analysis: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eliminary quality che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tities with anomalous trend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olid tum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506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tities with anomalous trends Haematological tum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846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election of cancer registries according to data qual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ow data quality can affect incidence (and prevalence)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sufficient specificity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any cases with unspecified of poorly specified morphology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ss cases attributed to specific rar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Bias direction </a:t>
            </a: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lower inc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846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election of cancer registries according to data qual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identified three criteri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ve specialized regis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ain only registries with a sufficiently low proportion of cases with non specified morph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ve registries with unexpectedly low incidence of rare cancers, suggesting insufficient specificity of diagnosi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55440"/>
            <a:ext cx="6985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69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7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ecisions on registry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riterion 3 was not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fter  Criterion 2, 11 registries were selected for potential removal from th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erence in incidence of the listed entities with and without the 11 registries was ass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Registry selection and 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992160"/>
            <a:ext cx="7345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Registry selection and 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56108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ecisions on registry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riterion 3 was not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fter  Criterion 2, 11 registries were selected for potential removal from th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erence in incidence of the listed entities with and without the 11 registries was ass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erences were min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o rare entity became frequent after rem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ne frequent entity became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1:52:02Z</dcterms:created>
  <dc:creator>Riccardo Capocaccia</dc:creator>
  <dc:description/>
  <dc:language>en-US</dc:language>
  <cp:lastModifiedBy>Capocaccia Riccardo</cp:lastModifiedBy>
  <dcterms:modified xsi:type="dcterms:W3CDTF">2009-03-25T08:16:43Z</dcterms:modified>
  <cp:revision>112</cp:revision>
  <dc:subject/>
  <dc:title>Rare Cancers: an operative definition</dc:title>
</cp:coreProperties>
</file>