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B94D-F75E-45FD-8078-273EDA18B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9B85-7FFF-4173-BDB0-9E47DB4D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7E5B-DAB7-4591-83F5-E44107B8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7B33-919F-48C6-B9C9-B2744CE3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764A-335D-4663-ADEB-F92056B6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66E5-4AF9-4FAD-A818-C4558727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3783-9ACA-493A-9EEC-FF10A585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A629-081D-4D6D-B994-AA432FD3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6E76-442C-43B3-B646-84F5944F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A5EB-5112-4577-ACFA-E3F26608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36EB-5B32-45A5-892D-360580ED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4D36-2828-4D37-A64D-D9F5C046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6AC1-D5F0-4EEF-AF58-E6FC912110DB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413000"/>
            <a:ext cx="79200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escriptive analysis: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Preliminary quality check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848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Entities with anomalous trends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Solid tumou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87854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090880"/>
            <a:ext cx="9144000" cy="45068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Entities with anomalous trends Haematological tumou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78469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Selection of cancer registries according to data qualit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Low data quality can affect incidence (and prevalence) estim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Insufficient specificity </a:t>
            </a:r>
            <a:r>
              <a:rPr b="0" lang="it-IT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Many cases with unspecified of poorly specified morphology </a:t>
            </a:r>
            <a:r>
              <a:rPr b="0" lang="it-IT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Less cases attributed to specific rare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Bias direction </a:t>
            </a:r>
            <a:r>
              <a:rPr b="0" lang="it-IT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lower inci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78469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Selection of cancer registries according to data qualit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identified three criteria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move specialized registr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tain only registries with a sufficiently low proportion of cases with non specified morph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move registries with unexpectedly low incidence of rare cancers, suggesting insufficient specificity of diagnosi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42920" y="55440"/>
            <a:ext cx="698508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3696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73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Decisions on registry sel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Criterion 3 was not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After  Criterion 2, 11 registries were selected for potential removal from the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Difference in incidence of the listed entities with and without the 11 registries was asse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Registry selection and incid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42920" y="992160"/>
            <a:ext cx="734544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Registry selection and incid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71640" y="816120"/>
            <a:ext cx="7561080" cy="60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Decisions on registry sel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Criterion 3 was not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After  Criterion 2, 11 registries were selected for potential removal from the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Difference in incidence of the listed entities with and without the 11 registries was asse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Differences were min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No rare entity became frequent after remo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One frequent entity became r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11:52:02Z</dcterms:created>
  <dc:creator>Riccardo Capocaccia</dc:creator>
  <dc:description/>
  <dc:language>en-US</dc:language>
  <cp:lastModifiedBy>Capocaccia Riccardo</cp:lastModifiedBy>
  <dcterms:modified xsi:type="dcterms:W3CDTF">2009-03-25T08:16:43Z</dcterms:modified>
  <cp:revision>112</cp:revision>
  <dc:subject/>
  <dc:title>Rare Cancers: an operative definition</dc:title>
</cp:coreProperties>
</file>