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4.wmf" ContentType="image/x-wmf"/>
  <Override PartName="/ppt/media/image27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76E9-FE1F-4258-A544-4AF993743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CE98-CC02-4483-9397-9D14DFF4D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78A9-6FDC-4112-AC5C-3A45A988F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17FF-DDD7-4CC5-80F6-9D730151D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F6EE-B47F-452A-B536-54D4FBF7F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52DD-4C55-4662-A35A-45956D473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71B2-CF17-46BB-B59A-F1BD436BB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9570-68C3-41FA-B3C1-AABD39E61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A5F2-4F82-432C-A11D-3D8C216EC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3A2F-7199-4E1E-8F3C-D8E1EC92B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CDD6-BBCE-4B44-BBE6-A581C4F23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DDD2-C5E5-4026-99C3-3364B0030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E84A2-666C-4DB8-B5A8-0FEDF7EE26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Analysis of tumour stage and trea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9400" y="1523880"/>
            <a:ext cx="7814160" cy="40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26 REGISTRIES IN TO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2: BREAST ON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2: CHILDREN ON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DATE OF INCIDENCE RANGE: 1978-20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YEARS OF DATA RANGE: 2 TO 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REGISTRIES VARY IN SIZE (NUMBER OF CASES) AND YEAR RANGE OF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973800" y="549360"/>
            <a:ext cx="714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n cancer: Distribution of tumour T st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762120" y="1295280"/>
            <a:ext cx="7286400" cy="42721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736200" y="5672160"/>
            <a:ext cx="574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Average (all registries excl Ireland &amp; Zurich): T1=7%, T2=15%, T3=60%, T4=18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809280" y="660240"/>
            <a:ext cx="724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east cancer: Distribution of tumour T st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914400" y="1295280"/>
            <a:ext cx="7439040" cy="43736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813600" y="5824440"/>
            <a:ext cx="5045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Average (all registries excl Ireland): T1=52%, T2=35%, T3=5%, T4=8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971640" y="1844640"/>
            <a:ext cx="7129440" cy="38498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953640" y="804960"/>
            <a:ext cx="641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n cancer: Tumour N Stage validity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06920" y="1289160"/>
            <a:ext cx="5751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des judged invalid if they do not conform to AJCC staging protocol (Edition 1-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895320" y="5824440"/>
            <a:ext cx="1697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Valid codes: 0, 1, 2, 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053360" y="598320"/>
            <a:ext cx="718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lon cancer: Distribution of tumour N st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914400" y="1523880"/>
            <a:ext cx="7162920" cy="41817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654480" y="5900760"/>
            <a:ext cx="6938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Average (all registries excl Slovenia Cracow, Zurich, Ireland): N0=54%, N1=30%, N2=13%, N3=3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824760" y="598320"/>
            <a:ext cx="722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lon cancer: Distribution of tumour M st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061280" y="5638680"/>
            <a:ext cx="299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Average all registries: M0=71%, M1=29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7315200" cy="42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901080" y="522360"/>
            <a:ext cx="722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lon cancer: Distribution of tumour M st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838080" y="1219320"/>
            <a:ext cx="7391520" cy="43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 stage (extent of diseas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: Tumour confined to site of orig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: Tumour has spread to immediately adjacent tissues and /or regional lymph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: Tumour has spread to distant orga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: Tumour not confined to site of origin but not specified whether code 2 or 3 appl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: No distant metastasis but not specified whether code 1 or 2 appl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40160" y="4816440"/>
            <a:ext cx="4758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des can be grouped to define a tumour 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ocal (code 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gional (code 5+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istant (code 4+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93280" y="4376880"/>
            <a:ext cx="144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ORDER: 1-5-2-4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592200" y="515880"/>
            <a:ext cx="699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ge (Extent of disease) for Breast canc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80773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879480" y="444600"/>
            <a:ext cx="699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ge (Extent of disease) for Breast canc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33520" y="1447920"/>
            <a:ext cx="7696080" cy="37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684360" y="189000"/>
            <a:ext cx="699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ge (Extent of disease) for Breast canc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143000" y="1676520"/>
            <a:ext cx="7315200" cy="38862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901440" y="722160"/>
            <a:ext cx="200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tages separate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tage and treatment data fiel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447920"/>
            <a:ext cx="83822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Method of diagnosis: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histology, cytology, either, none or unkn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ctual T, N and M data: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detailed information on T, N and M stat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ondensed T, N and M: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(more generalised information)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T: localised or advanc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N: none or 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M: none or 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Stage (Extent of Disease)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ombined information on tumour, nodal &amp; distant metastasis in a single valu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* possible to assign cases as local, regional or dist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Tumour size in millimet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Number of nodes examined &amp; number with metasta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ertainty factor: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if specialised diagnostic methods wer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used in order to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Treatment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surgery, chemotherapy, radiotherapy, other therap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(such as hormonal therapy) indicated (yes, no, unknow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Treatment flagged as first therapy post-diagnosis and/or symptomatic treat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669960" y="446040"/>
            <a:ext cx="699156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age (Extent of disease) for Breast canc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Grouped st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609480" y="1523880"/>
            <a:ext cx="8077320" cy="39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609480" y="1523880"/>
            <a:ext cx="7710480" cy="31179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468720" y="685800"/>
            <a:ext cx="8385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omparison of Stage 1 (tumour confined to site of origin) and TNM data (T=any, N=0, M=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Breast canc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838080" y="1752480"/>
            <a:ext cx="7696440" cy="31114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680760" y="822240"/>
            <a:ext cx="827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omparison of Stage 3 (tumour spread to distant organs) and M=1 (positive M stage)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Breast canc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826920" y="425520"/>
            <a:ext cx="728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ge (Extent of disease) for Prostate canc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39640" y="1197000"/>
            <a:ext cx="792000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11280" y="692280"/>
            <a:ext cx="728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ge (Extent of disease) for Prostate canc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76440" y="1344600"/>
            <a:ext cx="7781760" cy="39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27600" y="260280"/>
            <a:ext cx="8196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east cancer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istries where lymph node status was exami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15328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90720" y="1295280"/>
            <a:ext cx="6553080" cy="35276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951840" y="588960"/>
            <a:ext cx="441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east cancer: tumour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590920" y="5257800"/>
            <a:ext cx="3189240" cy="10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istries that provided treatment information and years of data 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611280" y="1844640"/>
            <a:ext cx="7921440" cy="32734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82680" y="5229360"/>
            <a:ext cx="475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996-1999 common to 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asque, EAnglia, WestMidlands: Codes = Yes - Unknow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ll Other registries: Codes = Yes - No - Unknow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374120" y="228600"/>
            <a:ext cx="582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1996 – 1999 Lung cancer trea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57200" y="838080"/>
            <a:ext cx="4267080" cy="22273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876920" y="838080"/>
            <a:ext cx="4114800" cy="22100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2514600" y="3581280"/>
            <a:ext cx="4038480" cy="21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ung cancer cases having had surgery 1996-19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7200" y="1600200"/>
          <a:ext cx="8227440" cy="3771720"/>
        </p:xfrm>
        <a:graphic>
          <a:graphicData uri="http://schemas.openxmlformats.org/drawingml/2006/table">
            <a:tbl>
              <a:tblPr/>
              <a:tblGrid>
                <a:gridCol w="8227440"/>
              </a:tblGrid>
              <a:tr h="3771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258920" y="1916280"/>
            <a:ext cx="6697800" cy="31874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172160" y="5495760"/>
            <a:ext cx="424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orkshire: 200 cases not microscopically confirm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85840" y="1143000"/>
            <a:ext cx="8705880" cy="50641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374120" y="457200"/>
            <a:ext cx="620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available on stage and trea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ncreas cancer cases having had surgery 1996-19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258920" y="1700280"/>
            <a:ext cx="7200720" cy="29242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245600" y="4869000"/>
            <a:ext cx="41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nglia: 368 cases not microscopically confirm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268360" y="765000"/>
            <a:ext cx="4319640" cy="29480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2268360" y="3789360"/>
            <a:ext cx="4319640" cy="29512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1983960" y="115920"/>
            <a:ext cx="560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n Cancer: Surgery 1978-20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835280" y="692280"/>
            <a:ext cx="4448160" cy="30384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1835280" y="3716280"/>
            <a:ext cx="4448160" cy="30384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480680" y="115920"/>
            <a:ext cx="560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n Cancer: Surgery 1978-20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39640" y="981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62400" y="826920"/>
            <a:ext cx="7808400" cy="46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ntities examined for stage and treatme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igestive cancers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esophag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om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mall Intest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lon, Rectum, Anal Ca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nc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ver and Intrahepatic Bile Du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all-bladder and Extrahepatic Bile Du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ung canc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reast canc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state cancer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220400" y="609480"/>
            <a:ext cx="643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east cancer: breakdown by sub-ent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33520" y="1447920"/>
            <a:ext cx="827244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042920" y="1413000"/>
            <a:ext cx="7277040" cy="41907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81800" y="404640"/>
            <a:ext cx="863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taplastic breast carcinoma: breakdown by Regi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824040" y="598320"/>
            <a:ext cx="620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ung cancer: breakdown by sub-ent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784872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26520" y="404640"/>
            <a:ext cx="845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cell carcinoma of lung: breakdown by Regi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80880" y="1219320"/>
            <a:ext cx="777240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753840" y="333360"/>
            <a:ext cx="724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n cancer: Tumour T Stage validity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90920" y="1073160"/>
            <a:ext cx="575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des judged invalid if they do not conform to AJCC staging protocol (Edition 1-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900000" y="1371600"/>
            <a:ext cx="7201080" cy="37339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905040" y="5334120"/>
            <a:ext cx="46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Valid codes: 0, 1, 2 (2A,2B [2nd ed AJCC]), 3, 4, 5 ([1st ed AJCC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2T13:13:00Z</dcterms:created>
  <dc:creator>sdeady</dc:creator>
  <dc:description/>
  <dc:language>en-US</dc:language>
  <cp:lastModifiedBy> deady</cp:lastModifiedBy>
  <dcterms:modified xsi:type="dcterms:W3CDTF">2009-03-25T08:01:45Z</dcterms:modified>
  <cp:revision>26</cp:revision>
  <dc:subject/>
  <dc:title>Registries that provided treatment information and years of data available</dc:title>
</cp:coreProperties>
</file>