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DC3-B77C-4588-BC52-D25B5577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F0FD-39FF-4D27-B36F-357984B8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757A-335F-4A79-A26E-75038BAC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D07B-18F9-4434-A803-BB6204EF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6572-FFC7-4B52-B837-3DCD5A97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F050-68BB-4A46-A529-64844673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A7B6-2F6E-4A55-B3A7-917C9A27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5338-FF17-4B0A-9320-F28B024C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1FFD-B8A0-4F37-9590-22A77302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0E8F-60C7-47B8-941E-22406326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29A3-C5B4-48E1-87C1-8D269FFC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C92A-DFC1-4DD0-A98C-77B7FA86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1568-AAE0-44CB-9D11-DA1152B49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nalysis of tumour stage and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9400" y="1523880"/>
            <a:ext cx="7814160" cy="40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26 REGISTRIES IN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: BREAST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: CHILDREN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ATE OF INCIDENCE RANGE: 1978-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EARS OF DATA RANGE: 2 TO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EGISTRIES VARY IN SIZE (NUMBER OF CASES) AND YEAR RANGE OF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3800" y="549360"/>
            <a:ext cx="71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 cancer: Distribution of tumour T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286400" cy="4272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36200" y="5672160"/>
            <a:ext cx="574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rage (all registries excl Ireland &amp; Zurich): T1=7%, T2=15%, T3=60%, T4=18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09280" y="660240"/>
            <a:ext cx="724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st cancer: Distribution of tumour T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439040" cy="437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13600" y="5824440"/>
            <a:ext cx="504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rage (all registries excl Ireland): T1=52%, T2=35%, T3=5%, T4=8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129440" cy="3849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53640" y="804960"/>
            <a:ext cx="641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 cancer: Tumour N Stage validity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06920" y="1289160"/>
            <a:ext cx="575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des judged invalid if they do not conform to AJCC staging protocol (Edition 1-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95320" y="5824440"/>
            <a:ext cx="169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Valid codes: 0, 1, 2,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53360" y="598320"/>
            <a:ext cx="71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on cancer: Distribution of tumour N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162920" cy="4181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54480" y="5900760"/>
            <a:ext cx="69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rage (all registries excl Slovenia Cracow, Zurich, Ireland): N0=54%, N1=30%, N2=13%, N3=3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24760" y="598320"/>
            <a:ext cx="72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on cancer: Distribution of tumour M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61280" y="5638680"/>
            <a:ext cx="299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rage all registries: M0=71%, M1=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01080" y="522360"/>
            <a:ext cx="72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on cancer: Distribution of tumour M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39152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stage (extent of dise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: Tumour confined to site of ori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 Tumour has spread to immediately adjacent tissues and /or regional lymph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: Tumour has spread to distant org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: Tumour not confined to site of origin but not specified whether code 2 or 3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: No distant metastasis but not specified whether code 1 or 2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0160" y="4816440"/>
            <a:ext cx="475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s can be grouped to define a tumour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cal (code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ional (code 5+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stant (code 4+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3280" y="4376880"/>
            <a:ext cx="14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ORDER: 1-5-2-4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92200" y="51588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(Extent of disease) for Breast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79480" y="44460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(Extent of disease) for Breast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6960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4360" y="18900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(Extent of disease) for Breast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7315200" cy="3886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01440" y="72216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ages separ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age and treatment data fie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447920"/>
            <a:ext cx="83822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ethod of diagnosis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istology, cytology, either, none or un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ctual T, N and M data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tailed information on T, N and M 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ndensed T, N and M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more generalised information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: localised or adv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N: none or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: none or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age (Extent of Disease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mbined information on tumour, nodal &amp; distant metastasis in a single va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* possible to assign cases as local, regional or di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umour size in millime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Number of nodes examined &amp; number with meta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ertainty factor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f specialised diagnostic methods wer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sed in order to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eatment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urgery, chemotherapy, radiotherapy, other therap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such as hormonal therapy) indicated (yes, no, unkn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eatment flagged as first therapy post-diagnosis and/or symptomatic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69960" y="446040"/>
            <a:ext cx="6991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ge (Extent of disease) for Breast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rouped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07732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710480" cy="3117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720" y="685800"/>
            <a:ext cx="83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arison of Stage 1 (tumour confined to site of origin) and TNM data (T=any, N=0, M=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reast can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696440" cy="3111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0760" y="822240"/>
            <a:ext cx="827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arison of Stage 3 (tumour spread to distant organs) and M=1 (positive M stage)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reast can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26920" y="425520"/>
            <a:ext cx="72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(Extent of disease) for Prostate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920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1280" y="692280"/>
            <a:ext cx="72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(Extent of disease) for Prostate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76440" y="1344600"/>
            <a:ext cx="778176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7600" y="260280"/>
            <a:ext cx="819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st canc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ries where lymph node status was exa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553080" cy="3527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51840" y="588960"/>
            <a:ext cx="44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st cancer: tumour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90920" y="5257800"/>
            <a:ext cx="31892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ries that provided treatment information and years of data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921440" cy="3273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2680" y="5229360"/>
            <a:ext cx="47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96-1999 common to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sque, EAnglia, WestMidlands: Codes = Yes - Unkn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l Other registries: Codes = Yes - No - Unkn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4120" y="228600"/>
            <a:ext cx="58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96 – 1999 Lung cancer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267080" cy="2227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876920" y="838080"/>
            <a:ext cx="4114800" cy="2210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514600" y="3581280"/>
            <a:ext cx="40384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g cancer cases having had surgery 1996-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7440" cy="3771720"/>
        </p:xfrm>
        <a:graphic>
          <a:graphicData uri="http://schemas.openxmlformats.org/drawingml/2006/table">
            <a:tbl>
              <a:tblPr/>
              <a:tblGrid>
                <a:gridCol w="8227440"/>
              </a:tblGrid>
              <a:tr h="377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3187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72160" y="5495760"/>
            <a:ext cx="424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orkshire: 200 cases not microscopically confir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5840" y="1143000"/>
            <a:ext cx="8705880" cy="5064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74120" y="457200"/>
            <a:ext cx="62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vailable on stage and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creas cancer cases having had surgery 1996-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7200720" cy="2924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45600" y="4869000"/>
            <a:ext cx="41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nglia: 368 cases not microscopically confir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4319640" cy="2948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268360" y="3789360"/>
            <a:ext cx="4319640" cy="2951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983960" y="115920"/>
            <a:ext cx="560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 Cancer: Surgery 1978-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35280" y="692280"/>
            <a:ext cx="4448160" cy="3038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835280" y="3716280"/>
            <a:ext cx="4448160" cy="3038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480680" y="115920"/>
            <a:ext cx="560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 Cancer: Surgery 1978-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2400" y="826920"/>
            <a:ext cx="780840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ities examined for stage and treat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gestive cancer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lon, Rectum, Anal C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 and Intrahepatic Bile 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ll-bladder and Extrahepatic Bile 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east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state canc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20400" y="609480"/>
            <a:ext cx="64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st cancer: breakdown by sub-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272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7040" cy="4190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1800" y="404640"/>
            <a:ext cx="86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aplastic breast carcinoma: breakdown by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4040" y="598320"/>
            <a:ext cx="62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ung cancer: breakdown by sub-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6520" y="404640"/>
            <a:ext cx="84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ell carcinoma of lung: breakdown by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7772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53840" y="333360"/>
            <a:ext cx="724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n cancer: Tumour T Stage validity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0920" y="1073160"/>
            <a:ext cx="575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des judged invalid if they do not conform to AJCC staging protocol (Edition 1-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0000" y="1371600"/>
            <a:ext cx="7201080" cy="3733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5040" y="5334120"/>
            <a:ext cx="46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Valid codes: 0, 1, 2 (2A,2B [2nd ed AJCC]), 3, 4, 5 ([1st ed AJCC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3:13:00Z</dcterms:created>
  <dc:creator>sdeady</dc:creator>
  <dc:description/>
  <dc:language>en-US</dc:language>
  <cp:lastModifiedBy> deady</cp:lastModifiedBy>
  <dcterms:modified xsi:type="dcterms:W3CDTF">2009-03-25T08:01:45Z</dcterms:modified>
  <cp:revision>26</cp:revision>
  <dc:subject/>
  <dc:title>Registries that provided treatment information and years of data available</dc:title>
</cp:coreProperties>
</file>