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CF0-C9D0-40E1-9C4F-E7FF34DC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D57-091B-46B6-9A2E-950BA5C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59D-0694-4184-97EF-08F1B5C0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416-65E9-4610-B0EC-CD1A210A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7D54-891F-4501-8D52-0BE486A3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B56C-BBB1-4D9A-82E1-61327AD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A7EC-D05A-454D-A252-7300021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403E-F32B-4381-91C1-4AE23D0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14FE-C234-4263-9B80-FA80B4B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97F8-DB3E-4EDF-BF21-0F13ACA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5E7E-2384-4EC5-9BEB-0A1EBCA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757-76A3-4740-A3A4-E2A0E052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E1B4-34B2-4438-B2E4-3CD9DFC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18C-7F21-494F-8017-BD97F1F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9394-9028-4900-B31F-51CB5F9F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703F-53B9-4684-9E67-CEA0CBD1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897D-6E4D-4450-AFB2-24E3D74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435-9C20-40E8-8C94-49AC32D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30A-26D5-4F04-BB67-5CDF19A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775-E932-4EE4-9C92-7C05C7A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B35-C4F5-43E7-A5F9-085A8DAA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110-79A3-4B7B-AB80-465DA692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ADC-428A-4D06-8727-BFB7331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0D1-3F08-49F8-A943-3CA5ECC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10D-AEF5-4917-945D-9B49C1A95689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6C7-4E78-4405-9AFB-9D84A4A13FE7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440" y="2530080"/>
            <a:ext cx="6157800" cy="24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Proposal for improving data quality o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rare cancers with high priority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Granada</a:t>
            </a:r>
            <a:r>
              <a:rPr b="1" lang="en-US" sz="1800" spc="-1" strike="noStrike">
                <a:solidFill>
                  <a:srgbClr val="336666"/>
                </a:solidFill>
                <a:latin typeface="Verdana"/>
              </a:rPr>
              <a:t>,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March 25</a:t>
            </a:r>
            <a:r>
              <a:rPr b="1" lang="en-GB" sz="1800" spc="-1" strike="noStrike" baseline="30000">
                <a:solidFill>
                  <a:srgbClr val="336666"/>
                </a:solidFill>
                <a:latin typeface="Verdana"/>
              </a:rPr>
              <a:t>th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200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Andalusian School of Public Healt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3720" y="2514600"/>
            <a:ext cx="336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% Sarcoma NO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3320" y="5776920"/>
            <a:ext cx="2716200" cy="928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152280"/>
            <a:ext cx="137160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umors of oral 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stage at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56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3520" y="5835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% M+ 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85080" cy="19447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Fare con registri di rareca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CNS tum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835280" y="2997360"/>
            <a:ext cx="7308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ign/borderline/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D-O chang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 pilocytic astrocyto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ttitudes of path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variation in survi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follow-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leth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yszard show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ain tumour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-year survival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272120" cy="495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51640" y="213372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From 27% to 16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&gt;20%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(Finland, Iceland,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Norway, Ireland, Wales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Austria, Belgium, Germany,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Switzerland, Portugal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623736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8160" y="6157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.7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276640"/>
            <a:ext cx="760320" cy="288720"/>
          </a:xfrm>
          <a:prstGeom prst="rightArrow">
            <a:avLst>
              <a:gd name="adj1" fmla="val 50000"/>
              <a:gd name="adj2" fmla="val 6583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5516640"/>
            <a:ext cx="760320" cy="288720"/>
          </a:xfrm>
          <a:prstGeom prst="rightArrow">
            <a:avLst>
              <a:gd name="adj1" fmla="val 50000"/>
              <a:gd name="adj2" fmla="val 6583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791320"/>
            <a:ext cx="31240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urce: Sant et al, EJC, 20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Germ cell tumou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Ovarian germ cell tu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2022480"/>
            <a:ext cx="784872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Indicator of data qua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86920" y="3448080"/>
            <a:ext cx="720756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onsistency in diagnosi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ding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ographical variation in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581360"/>
            <a:ext cx="647640" cy="648000"/>
          </a:xfrm>
          <a:prstGeom prst="downArrow">
            <a:avLst>
              <a:gd name="adj1" fmla="val 50000"/>
              <a:gd name="adj2" fmla="val 2501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-27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 of data qualit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MV  DCO  Lost to f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16240" y="1225440"/>
            <a:ext cx="4703760" cy="5732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1989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urce: Lancet Oncol. 2006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Feb;7(2):132-40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3680" y="5516640"/>
            <a:ext cx="976320" cy="288720"/>
          </a:xfrm>
          <a:prstGeom prst="rightArrow">
            <a:avLst>
              <a:gd name="adj1" fmla="val 50000"/>
              <a:gd name="adj2" fmla="val 84539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7082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-27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Crude and standardised incidence rates; range of incidence across regions</a:t>
            </a: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 (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32000" y="1219320"/>
            <a:ext cx="2001600" cy="547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6320" y="1197000"/>
            <a:ext cx="5918400" cy="544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6235560"/>
            <a:ext cx="976320" cy="146160"/>
          </a:xfrm>
          <a:prstGeom prst="rightArrow">
            <a:avLst>
              <a:gd name="adj1" fmla="val 50000"/>
              <a:gd name="adj2" fmla="val 16699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5157720"/>
            <a:ext cx="431640" cy="647640"/>
          </a:xfrm>
          <a:prstGeom prst="ellipse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6920" y="3933720"/>
            <a:ext cx="505080" cy="432000"/>
          </a:xfrm>
          <a:prstGeom prst="ellipse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317080" y="422100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317080" y="538632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17080" y="5589720"/>
            <a:ext cx="287280" cy="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715000" y="1143000"/>
            <a:ext cx="380880" cy="22860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391520" y="1066680"/>
            <a:ext cx="380880" cy="304920"/>
          </a:xfrm>
          <a:prstGeom prst="line">
            <a:avLst/>
          </a:prstGeom>
          <a:ln w="9360">
            <a:solidFill>
              <a:srgbClr val="df13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re tumours wit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short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Germ cell tum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79640" y="3448080"/>
            <a:ext cx="64152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% of morphology 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ng the relevant canc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Arial"/>
              </a:rPr>
              <a:t>leukaem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979640" y="3448080"/>
            <a:ext cx="64152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% of morphology 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% of leukaemia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OS by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    registry  (average 6%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700360" y="1557360"/>
          <a:ext cx="39895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57360"/>
                    <a:ext cx="3989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hort list (agre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ata quality analysis on information already available to registries (ICD-O codes, incidence and survival analy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heck of morphology codes NOS and its impact on incidence and surviv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27640" y="11592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79640" y="1407600"/>
            <a:ext cx="66247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Further clinical information to be col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96760" y="3139920"/>
            <a:ext cx="6807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spital for diagnosis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omar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nostic fac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666699"/>
                </a:solidFill>
                <a:latin typeface="Arial"/>
              </a:rPr>
              <a:t>Short l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90512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sotheliom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ver angiosarco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Sarcom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Tumors of oral ca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SNC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Germ cell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Endocrine tumou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916280"/>
            <a:ext cx="216000" cy="8632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Primary preven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57840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090960"/>
            <a:ext cx="1081080" cy="215640"/>
          </a:xfrm>
          <a:prstGeom prst="rightArrow">
            <a:avLst>
              <a:gd name="adj1" fmla="val 50000"/>
              <a:gd name="adj2" fmla="val 12533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006800"/>
            <a:ext cx="287280" cy="11509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1280" y="54957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9280" y="350208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Secondary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4221000"/>
            <a:ext cx="2735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Quality of ca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Arial"/>
              </a:rPr>
              <a:t>Data qualit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Mesothelio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Quality of follow-up (high lethality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ccuracy of diagno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2108160"/>
            <a:ext cx="31017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Mesothelioma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-year relative survival by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2108160"/>
            <a:ext cx="31017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Mesothelioma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-year relative survival by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52280"/>
            <a:ext cx="121896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57196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giosarcoma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f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45932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51320"/>
            <a:ext cx="792360" cy="265320"/>
          </a:xfrm>
          <a:prstGeom prst="leftArrow">
            <a:avLst>
              <a:gd name="adj1" fmla="val 50000"/>
              <a:gd name="adj2" fmla="val 7466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5084640"/>
            <a:ext cx="23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giosarcom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li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6021360"/>
            <a:ext cx="31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urce: Lancet Oncol. 2006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Feb;7(2):132-40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928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1640" y="1484280"/>
            <a:ext cx="3168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nne Marie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will refer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arco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99"/>
                </a:solidFill>
                <a:latin typeface="Arial"/>
              </a:rPr>
              <a:t>% of sarcoma 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27162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720" y="2514600"/>
            <a:ext cx="336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% Sarcoma NO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6666"/>
                </a:solidFill>
                <a:latin typeface="Arial"/>
              </a:rPr>
              <a:t>by registry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3320" y="5776920"/>
            <a:ext cx="2716200" cy="9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7:03:28Z</dcterms:modified>
  <cp:revision>13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