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456-7182-42AF-AE3D-597ABCE8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B19-B744-4199-A7D2-03AE3C1C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0F9-54C7-4043-9034-A67A305A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846-64CF-473B-8E28-458364A1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7C2-137B-4924-BA59-D0404D8A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F99-C9EE-431B-8E94-413E8EC3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A1EF-0EC3-4B16-9AA1-AFB4831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1B5-8943-4E86-B1C9-590DB193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09CA-17AF-4F59-B9BD-A8B89AA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D83-797B-4B81-97B7-872D298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6F81-E34C-4FE2-B4A9-9BBFA76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67A-8239-4B4A-B2E3-E722196D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C77F-6D68-4AC3-8C4C-C068BC7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B6F8-1C45-457A-B9AF-E7665C9D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1539-FA27-4356-A36C-CF7DDA70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7B66-DE09-4C6B-979C-C080F00C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927F-1B17-4FBA-9278-A306E7E4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C47-76BA-4906-B351-B2FAC6BE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96F-E89D-44A2-BAAE-964A5227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3A5-11C6-4924-91CD-C667682D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507-CC20-49C7-A9DA-26A87654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D6A-A39C-4F9A-AF6E-8DFC620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7E7-2D89-43CA-8887-7D2D1F7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C04-7E7B-472F-B09F-0BB4C9A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A6A-FC63-4754-8F3B-BBA2CC1B18F1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9123-C865-4C79-9D42-14519898A147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440" y="2530080"/>
            <a:ext cx="6157800" cy="24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ARECARE  projec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Proposal for improving data quality on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rare cancers with high priority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Granada</a:t>
            </a:r>
            <a:r>
              <a:rPr b="1" lang="en-US" sz="1800" spc="-1" strike="noStrike">
                <a:solidFill>
                  <a:srgbClr val="336666"/>
                </a:solidFill>
                <a:latin typeface="Verdana"/>
              </a:rPr>
              <a:t>,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March 25</a:t>
            </a:r>
            <a:r>
              <a:rPr b="1" lang="en-GB" sz="1800" spc="-1" strike="noStrike" baseline="30000">
                <a:solidFill>
                  <a:srgbClr val="336666"/>
                </a:solidFill>
                <a:latin typeface="Verdana"/>
              </a:rPr>
              <a:t>th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200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Andalusian School of Public Healt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3720" y="2514600"/>
            <a:ext cx="336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% Sarcoma NO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by registr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3320" y="5776920"/>
            <a:ext cx="2716200" cy="928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880" y="152280"/>
            <a:ext cx="137160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umors of oral c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stage at diagn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56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3520" y="5835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% M+ by registr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6985080" cy="19447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Fare con registri di rarecar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CNS tum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835280" y="2997360"/>
            <a:ext cx="7308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ign/borderline/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D-O chang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 pilocytic astrocyto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attitudes of path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gh variation in survi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follow-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gh leth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yszard show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ain tumour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-year survival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272120" cy="4953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51640" y="213372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From 27% to 16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&gt;20%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(Finland, Iceland,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Norway, Ireland, Wales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Austria, Belgium, Germany,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Switzerland, Portugal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623736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8160" y="6157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.7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276640"/>
            <a:ext cx="760320" cy="288720"/>
          </a:xfrm>
          <a:prstGeom prst="rightArrow">
            <a:avLst>
              <a:gd name="adj1" fmla="val 50000"/>
              <a:gd name="adj2" fmla="val 6583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5516640"/>
            <a:ext cx="760320" cy="288720"/>
          </a:xfrm>
          <a:prstGeom prst="rightArrow">
            <a:avLst>
              <a:gd name="adj1" fmla="val 50000"/>
              <a:gd name="adj2" fmla="val 6583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791320"/>
            <a:ext cx="31240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ource: Sant et al, EJC, 20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Germ cell tumou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Ovarian germ cell tu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2022480"/>
            <a:ext cx="784872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Arial"/>
              </a:rPr>
              <a:t>Indicator of data qua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86920" y="3448080"/>
            <a:ext cx="720756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onsistency in diagnosi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ding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ographical variation in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581360"/>
            <a:ext cx="647640" cy="648000"/>
          </a:xfrm>
          <a:prstGeom prst="downArrow">
            <a:avLst>
              <a:gd name="adj1" fmla="val 50000"/>
              <a:gd name="adj2" fmla="val 2501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-27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 of data qualit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MV  DCO  Lost to f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16240" y="1225440"/>
            <a:ext cx="4703760" cy="5732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280" y="1989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urce: Lancet Oncol. 2006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Feb;7(2):132-40</a:t>
            </a: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63680" y="5516640"/>
            <a:ext cx="976320" cy="288720"/>
          </a:xfrm>
          <a:prstGeom prst="rightArrow">
            <a:avLst>
              <a:gd name="adj1" fmla="val 50000"/>
              <a:gd name="adj2" fmla="val 84539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7082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-27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Crude and standardised incidence rates; range of incidence across regions</a:t>
            </a: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 (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32000" y="1219320"/>
            <a:ext cx="2001600" cy="547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6320" y="1197000"/>
            <a:ext cx="5918400" cy="544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6235560"/>
            <a:ext cx="976320" cy="146160"/>
          </a:xfrm>
          <a:prstGeom prst="rightArrow">
            <a:avLst>
              <a:gd name="adj1" fmla="val 50000"/>
              <a:gd name="adj2" fmla="val 16699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5157720"/>
            <a:ext cx="431640" cy="647640"/>
          </a:xfrm>
          <a:prstGeom prst="ellipse">
            <a:avLst/>
          </a:prstGeom>
          <a:noFill/>
          <a:ln w="9360">
            <a:solidFill>
              <a:srgbClr val="df1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6920" y="3933720"/>
            <a:ext cx="505080" cy="432000"/>
          </a:xfrm>
          <a:prstGeom prst="ellipse">
            <a:avLst/>
          </a:prstGeom>
          <a:noFill/>
          <a:ln w="9360">
            <a:solidFill>
              <a:srgbClr val="df1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317080" y="4221000"/>
            <a:ext cx="287280" cy="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317080" y="5386320"/>
            <a:ext cx="287280" cy="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17080" y="5589720"/>
            <a:ext cx="287280" cy="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715000" y="1143000"/>
            <a:ext cx="380880" cy="22860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391520" y="1066680"/>
            <a:ext cx="380880" cy="30492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re tumours wit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h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short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Arial"/>
              </a:rPr>
              <a:t>Germ cell tum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79640" y="3448080"/>
            <a:ext cx="64152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% of morphology 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ong the relevant canc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Arial"/>
              </a:rPr>
              <a:t>leukaem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979640" y="3448080"/>
            <a:ext cx="64152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% of morphology 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301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% of leukaemia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OS by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    registry  (average 6%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700360" y="1557360"/>
          <a:ext cx="39895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57360"/>
                    <a:ext cx="39895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449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hort list (agre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ata quality analysis on information already available to registries (ICD-O codes, incidence and survival analy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heck of morphology codes NOS and its impact on incidence and surviv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227640" y="115920"/>
            <a:ext cx="26449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79640" y="1407600"/>
            <a:ext cx="66247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Further clinical information to be col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96760" y="3139920"/>
            <a:ext cx="6807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spital for diagnosis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omar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nostic fac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771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666699"/>
                </a:solidFill>
                <a:latin typeface="Arial"/>
              </a:rPr>
              <a:t>Short l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90512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sotheliom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ver angiosarco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Sarcom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Tumors of oral cav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SNC tumou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Germ cell tumou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Endocrine tumou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916280"/>
            <a:ext cx="216000" cy="86328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Primary preven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578400"/>
            <a:ext cx="1081080" cy="215640"/>
          </a:xfrm>
          <a:prstGeom prst="rightArrow">
            <a:avLst>
              <a:gd name="adj1" fmla="val 50000"/>
              <a:gd name="adj2" fmla="val 12533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090960"/>
            <a:ext cx="1081080" cy="215640"/>
          </a:xfrm>
          <a:prstGeom prst="rightArrow">
            <a:avLst>
              <a:gd name="adj1" fmla="val 50000"/>
              <a:gd name="adj2" fmla="val 12533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006800"/>
            <a:ext cx="287280" cy="115092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1280" y="549576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Diagnostic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9280" y="350208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Secondary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4221000"/>
            <a:ext cx="2735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Quality of car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522936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Data qualit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Mesothelio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360" y="299736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Quality of follow-up (high lethality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ccuracy of diagnos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2108160"/>
            <a:ext cx="31017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Mesothelioma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-year relative survival by registr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2108160"/>
            <a:ext cx="31017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Mesothelioma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-year relative survival by registr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52280"/>
            <a:ext cx="121896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57196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giosarcoma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f 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45932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51320"/>
            <a:ext cx="792360" cy="265320"/>
          </a:xfrm>
          <a:prstGeom prst="leftArrow">
            <a:avLst>
              <a:gd name="adj1" fmla="val 50000"/>
              <a:gd name="adj2" fmla="val 7466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5084640"/>
            <a:ext cx="230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giosarcom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li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6021360"/>
            <a:ext cx="31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urce: Lancet Oncol. 2006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Feb;7(2):132-40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6200" cy="928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1640" y="1484280"/>
            <a:ext cx="3168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Anne Marie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will refer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arco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99"/>
                </a:solidFill>
                <a:latin typeface="Arial"/>
              </a:rPr>
              <a:t>% of sarcoma 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27162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720" y="2514600"/>
            <a:ext cx="336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% Sarcoma NO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by registr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3320" y="5776920"/>
            <a:ext cx="2716200" cy="9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Notebook</cp:lastModifiedBy>
  <dcterms:modified xsi:type="dcterms:W3CDTF">2009-03-25T07:03:28Z</dcterms:modified>
  <cp:revision>13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