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BFE-892B-4D03-9A40-269F4E5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147-93DE-4DBD-AD5E-7DBEE79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B46-02B9-42BF-B15F-1A717299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230-FCBA-491F-A5D4-F65A6F6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D098-1331-4B35-9E2C-F9C9C9D5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15E2-E061-4138-AFA1-4E63AFF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9E29-34BE-44AE-8245-3C17169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4C8A-B273-4BDF-AB70-2E3F347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6332-49BD-464D-99C4-C4DABB5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0C4-A687-4CFC-B89D-E4977A7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DC2B-DEE6-412D-A1B9-9F3BD8B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9B8-7313-4958-961D-DBAFF4C6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1459-B2D5-4848-A385-A869AFE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4F2B-0794-4223-A3CB-B3EE99C4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2CF3-A77D-4143-A4DD-C94DC35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7ECA-154B-49FD-A59D-9F24C12A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931-4C98-4B1A-A0B4-441B5485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AC0-C696-4FD3-9BF2-F0933C0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794-D59C-4E05-BFB3-C358815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089-EC52-40A1-8EE7-3525B7F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AB4-6ED9-43CC-9054-961ED18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6D6-C3FA-4F2B-8F2A-F1D9E8F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C5B-18FE-4F83-9D2F-20C1F5B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2CD-1101-4DF5-8CC6-D93F03A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2DC-C21F-4208-BBE3-B2B03FB2407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A38-9453-443B-89FE-444A599DE20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02480" y="2682360"/>
            <a:ext cx="710424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Data quality and supplementary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ranad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March 25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dalusian School of Public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 better indicator for rare canc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 better indicator for non neoplastic rare dise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apy indicates the choice of the best indic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wareness of regulatory issues on orphan d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Way to the list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191592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al from RARECARE WP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 of experts (pathologists, oncologists and epidemiologis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nsus worksho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russels and Trev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 based discus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nsus with scientific bo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9040" y="76320"/>
            <a:ext cx="8724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Rational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hind the List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lay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es of tum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umors characterized by a comm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erral patter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umors perceived by clinicians as a single disease ent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coded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Rational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hind the List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common referral patter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 of health 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nical decision making; clinical resear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ll WHO tumor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Rare tumours, short list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WP4, Dei To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y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nostic accurac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nical research feasibi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2892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ry preventio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270792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sothelioma (asbes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ver angiosarcoma (vinyl chlor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718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1336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 </a:t>
            </a:r>
            <a:br>
              <a:rPr sz="32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br>
              <a:rPr sz="3600"/>
            </a:b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752480" y="31413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rc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44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1336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prevention </a:t>
            </a:r>
            <a:br>
              <a:rPr sz="36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umors of oral ca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definition of “rare cancers”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nd a list of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estimate the burden of rare cancers in Euro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To improve the quality of data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in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cancer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develop strategies for the diffusion of information among all the key play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figures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cidence, survival, prevalence and mortality for all rare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Data quality will be analysed for a subset of cancers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web-site on rare cancers will be designed to disseminate resul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uration: 3 yea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urveillance of rare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ncer in Euro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140760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of care </a:t>
            </a:r>
            <a:br>
              <a:rPr sz="36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52480" y="292392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NC tum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rm cell tum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k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criteria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merkel skin, haematologic tumours, GIST, neuroendocrine tumour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Second year major activ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111400"/>
            <a:ext cx="79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Verdana"/>
              </a:rPr>
              <a:t>Deliverable no. 1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chnical report with basic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rare cancers and health care related macro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Verdana"/>
              </a:rPr>
              <a:t>To be provided within the 24°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43640" y="44280"/>
            <a:ext cx="24289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cc"/>
                </a:solidFill>
                <a:latin typeface="Arial"/>
              </a:rPr>
              <a:t>RARECARE second year projec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, indicato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iv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t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 of cu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230 rare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701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cc"/>
                </a:solidFill>
                <a:latin typeface="Arial"/>
              </a:rPr>
              <a:t>Results,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lay out</a:t>
            </a: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458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600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d8c"/>
                </a:solidFill>
                <a:latin typeface="GillSans"/>
              </a:rPr>
              <a:t>Incidence, prevalence and mortalit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137800" cy="40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2637000"/>
            <a:ext cx="7489800" cy="1584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4149720"/>
            <a:ext cx="8136000" cy="23036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023200">
            <a:off x="2842920" y="2060640"/>
            <a:ext cx="503280" cy="342720"/>
          </a:xfrm>
          <a:prstGeom prst="leftArrow">
            <a:avLst>
              <a:gd name="adj1" fmla="val 50000"/>
              <a:gd name="adj2" fmla="val 36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Survival Tab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5761080"/>
            <a:ext cx="2305080" cy="780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390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2000" y="1916280"/>
            <a:ext cx="79236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916280"/>
            <a:ext cx="79236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213000"/>
            <a:ext cx="792360" cy="21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3213000"/>
            <a:ext cx="792000" cy="21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7082000">
            <a:off x="8361000" y="1871280"/>
            <a:ext cx="252360" cy="198360"/>
          </a:xfrm>
          <a:prstGeom prst="leftArrow">
            <a:avLst>
              <a:gd name="adj1" fmla="val 50000"/>
              <a:gd name="adj2" fmla="val 318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677800">
            <a:off x="440640" y="4608360"/>
            <a:ext cx="252720" cy="198360"/>
          </a:xfrm>
          <a:prstGeom prst="leftArrow">
            <a:avLst>
              <a:gd name="adj1" fmla="val 50000"/>
              <a:gd name="adj2" fmla="val 31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6800" y="98532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Further information from C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2520" y="2852640"/>
            <a:ext cx="7239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spital for diagnosis and 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iomark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ognostic facto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Verdana"/>
              </a:rPr>
              <a:t>Sand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264636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078000"/>
            <a:ext cx="6476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End of the present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ag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Thank you for com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enjoy the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26920" y="1628640"/>
          <a:ext cx="7739280" cy="486108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Management committee member list and date of the first mee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utes of the meeting with cancer registries available to work on quality analys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escription of the project for the w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rst interim repor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elease of the web-site to the public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00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6920" y="1628640"/>
          <a:ext cx="7739280" cy="503100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rare canc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18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with cancer registries available to work on 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Publication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+ WP5 (indicato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Technical report of the basic/macro indicators of rare cancers and second interim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hort list of rare cancer with high priority  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00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1628640"/>
          <a:ext cx="7881840" cy="4149720"/>
        </p:xfrm>
        <a:graphic>
          <a:graphicData uri="http://schemas.openxmlformats.org/drawingml/2006/table">
            <a:tbl>
              <a:tblPr/>
              <a:tblGrid>
                <a:gridCol w="2065320"/>
                <a:gridCol w="4686120"/>
                <a:gridCol w="1130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scientific meetings fro the dissemination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with quality considerations on the available data on rare can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on of the first seminar on classification and coding problems addressed to CR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nal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4828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52800" y="985320"/>
            <a:ext cx="5960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66"/>
                </a:solidFill>
                <a:latin typeface="Arial"/>
              </a:rPr>
              <a:t>AIMS </a:t>
            </a: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f the meet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87400" y="2997360"/>
            <a:ext cx="6894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on how to improve data quality in rare cancers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agree on a common work for improving data qu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agree on a protocol for the check of the cases and the collection of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urther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inical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plan a seminar on rare cancers data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we have done until n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2520" y="1120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List of rare tumours and rational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2520" y="2924280"/>
            <a:ext cx="72392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ist of rare cancers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st of tumour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a new class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rity determined by frequency: Incidence/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6:48:04Z</dcterms:modified>
  <cp:revision>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