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600-1F1D-425C-BA29-2E1229DD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BB8-7B32-473E-8425-263B31E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7C7-F70E-4790-9209-9CF4988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FDD-0E6A-4386-BB6F-72395DE6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6878-9985-4BA4-9C55-1B7D6F7B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83A-10E2-455A-8FE3-233D692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44D-DCA9-44ED-9E5A-71531D2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B1B4-CF11-4367-BB5B-53608BDB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7771-7C26-4376-828C-56C21FE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C15A-AEE4-4EC5-8B1E-7821C48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EC4-B7EB-4576-98CB-099A8DD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0F8-3A9C-473D-8148-F28A0A8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812-1B79-4856-9ACD-D769155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8199-9501-455B-B3A3-6C6424E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90B4-9554-4530-A581-8BAA40C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45F-87B1-4491-A7A8-BAFA287A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798F-0FFB-4110-BF29-F404D215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441-BB0C-4CC4-904E-978A523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777-789D-4ECA-A32A-79AF9E98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D7A-7513-4D44-8856-F109C3C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068-9C29-4BD7-A0F2-68A1E238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A35-48E5-4AFA-AE8F-342FC96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970-A215-4A96-9BD0-8428407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3D8-120D-465B-BB9F-E0FACB2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741-69AC-4533-9C53-A26B34E46B3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69B-4FBC-4A81-925D-832CAFDE832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02480" y="2682360"/>
            <a:ext cx="710424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RARECARE 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Verdana"/>
              </a:rPr>
              <a:t>Data quality and supplementary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ranad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March 25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dalusian School of Public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 better indicator for rare canc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 better indicator for non neoplastic rare dise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apy indicates the choice of the best indic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wareness of regulatory issues on orphan d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e Way to the list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191592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al from RARECARE WP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 of experts (pathologists, oncologists and epidemiologis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nsus worksho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russels and Trev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 based discus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nsus with scientific bo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9040" y="76320"/>
            <a:ext cx="8724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Rational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hind the List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lay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es of tum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umors characterized by a comm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erral patter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umors perceived by clinicians as a single disease ent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coded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Rational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hind the List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common referral patter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 of health 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nical decision making; clinical resear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aye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ll WHO tumor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Rare tumours, short list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WP4, Dei To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y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nostic accurac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nical research feasibi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2892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ry preventio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270792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sothelioma (asbes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ver angiosarcoma (vinyl chlor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718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1336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 </a:t>
            </a:r>
            <a:br>
              <a:rPr sz="32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iagnostic accuracy</a:t>
            </a:r>
            <a:br>
              <a:rPr sz="3600"/>
            </a:b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752480" y="31413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rc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44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1336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prevention </a:t>
            </a:r>
            <a:br>
              <a:rPr sz="36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umors of oral ca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definition of “rare cancers”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nd a list of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estimate the burden of rare cancers in Euro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To improve the quality of data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in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cancer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develop strategies for the diffusion of information among all the key play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figures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cidence, survival, prevalence and mortality for all rare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Data quality will be analysed for a subset of cancers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web-site on rare cancers will be designed to disseminate resul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uration: 3 yea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urveillance of rare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ncer in Euro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140760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a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of care </a:t>
            </a:r>
            <a:br>
              <a:rPr sz="36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52480" y="292392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NC tum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rm cell tum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k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criteria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133360" y="299736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merkel skin, haematologic tumours, GIST, neuroendocrine tumour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Second year major activ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111400"/>
            <a:ext cx="79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Verdana"/>
              </a:rPr>
              <a:t>Deliverable no. 1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chnical report with basic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rare cancers and health care related macro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Verdana"/>
              </a:rPr>
              <a:t>To be provided within the 24°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43640" y="44280"/>
            <a:ext cx="24289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cc"/>
                </a:solidFill>
                <a:latin typeface="Arial"/>
              </a:rPr>
              <a:t>RARECARE second year projec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, indicato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iv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t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 of cu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230 rare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701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cc"/>
                </a:solidFill>
                <a:latin typeface="Arial"/>
              </a:rPr>
              <a:t>Results,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lay out</a:t>
            </a: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458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600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d8c"/>
                </a:solidFill>
                <a:latin typeface="GillSans"/>
              </a:rPr>
              <a:t>Incidence, prevalence and mortalit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137800" cy="40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2637000"/>
            <a:ext cx="7489800" cy="1584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4149720"/>
            <a:ext cx="8136000" cy="23036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023200">
            <a:off x="2842920" y="2060640"/>
            <a:ext cx="503280" cy="342720"/>
          </a:xfrm>
          <a:prstGeom prst="leftArrow">
            <a:avLst>
              <a:gd name="adj1" fmla="val 50000"/>
              <a:gd name="adj2" fmla="val 36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Survival Tab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5761080"/>
            <a:ext cx="2305080" cy="780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390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2000" y="1916280"/>
            <a:ext cx="79236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916280"/>
            <a:ext cx="79236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213000"/>
            <a:ext cx="792360" cy="21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3213000"/>
            <a:ext cx="792000" cy="21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7082000">
            <a:off x="8361000" y="1871280"/>
            <a:ext cx="252360" cy="198360"/>
          </a:xfrm>
          <a:prstGeom prst="leftArrow">
            <a:avLst>
              <a:gd name="adj1" fmla="val 50000"/>
              <a:gd name="adj2" fmla="val 318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677800">
            <a:off x="440640" y="4608360"/>
            <a:ext cx="252720" cy="198360"/>
          </a:xfrm>
          <a:prstGeom prst="leftArrow">
            <a:avLst>
              <a:gd name="adj1" fmla="val 50000"/>
              <a:gd name="adj2" fmla="val 31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6800" y="98532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Further information from C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2520" y="2852640"/>
            <a:ext cx="7239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spital for diagnosis and 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iomark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ognostic facto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Verdana"/>
              </a:rPr>
              <a:t>Sand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264636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078000"/>
            <a:ext cx="6476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End of the present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ag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Thank you for com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enjoy the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26920" y="1628640"/>
          <a:ext cx="7739280" cy="486108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Management committee member list and date of the first mee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utes of the meeting with cancer registries available to work on quality analys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escription of the project for the w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rst interim repor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elease of the web-site to the public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00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6920" y="1628640"/>
          <a:ext cx="7739280" cy="503100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rare canc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18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with cancer registries available to work on 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Publication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+ WP5 (indicato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Technical report of the basic/macro indicators of rare cancers and second interim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hort list of rare cancer with high priority  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00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1628640"/>
          <a:ext cx="7881840" cy="4149720"/>
        </p:xfrm>
        <a:graphic>
          <a:graphicData uri="http://schemas.openxmlformats.org/drawingml/2006/table">
            <a:tbl>
              <a:tblPr/>
              <a:tblGrid>
                <a:gridCol w="2065320"/>
                <a:gridCol w="4686120"/>
                <a:gridCol w="1130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scientific meetings fro the dissemination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with quality considerations on the available data on rare can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on of the first seminar on classification and coding problems addressed to CR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nal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4828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52800" y="985320"/>
            <a:ext cx="5960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66"/>
                </a:solidFill>
                <a:latin typeface="Arial"/>
              </a:rPr>
              <a:t>AIMS </a:t>
            </a: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f the meet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87400" y="2997360"/>
            <a:ext cx="6894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on how to improve data quality in rare cancers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agree on a common work for improving data qu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agree on a protocol for the check of the cases and the collection of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urther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inical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plan a seminar on rare cancers data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we have done until n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2520" y="1120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List of rare tumours and rational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2520" y="2924280"/>
            <a:ext cx="72392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ist of rare cancers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st of tumour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a new class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rity determined by frequency: Incidence/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Notebook</cp:lastModifiedBy>
  <dcterms:modified xsi:type="dcterms:W3CDTF">2009-03-25T06:48:04Z</dcterms:modified>
  <cp:revision>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