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814-78BB-48B4-910D-D9B0AC45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0738-C527-423C-A806-E6D9CBD2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818B-C8CB-44B7-83F7-110D9810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3843-441C-4902-A9EB-450748BD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227A-C208-45FB-B6D4-BB7CCB28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704A-3BD2-4174-8E03-6E52C855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5012-F59A-446C-8B1B-6CF8BC3E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ABB2-5901-41A8-A300-20110AD2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B02F-7AF3-4F8B-B9EE-8224DFE3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4CFC-B499-47B1-A4B2-A2BAC51C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0D0F-2DB7-4636-AB2B-790A7D35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73E2-9616-4ADA-A19E-041EB439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5245-1AC6-4859-98EF-4F655817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3D26-9717-4226-B902-0FB52EA2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ADE9-CEA3-4F33-8D0A-0E1DA587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0E4C-AA32-457A-9713-B66EBDF5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6F92-6A50-4BFA-8EC8-5B279EA9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B1D9-5422-472F-98EC-9C0B6635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CB16-CC06-4D5F-9D58-6CFA42B5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0821-FCC9-455E-A5D1-3165D6E4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7E93-9771-4C1A-9C99-0987ED98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79E1-339F-4089-BD79-FF57A67E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B027-7AE3-4A50-8D10-85668A9D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4383-39F3-4CED-B1D4-6DFBFC3D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848A-CCB9-449B-820E-8291C17E9A2E}" type="slidenum">
              <a:rPr b="0" lang="en-GB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FD5D-0998-4211-9E27-E205642D9A3A}" type="slidenum">
              <a:rPr b="0" lang="en-GB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335320" y="2163960"/>
            <a:ext cx="5091120" cy="320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ARECARE  project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66"/>
                </a:solidFill>
                <a:latin typeface="Verdana"/>
              </a:rPr>
              <a:t>Data quality check in the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66"/>
                </a:solidFill>
                <a:latin typeface="Verdana"/>
              </a:rPr>
              <a:t>Lombardy Cancer Registry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66"/>
                </a:solidFill>
                <a:latin typeface="Verdana"/>
              </a:rPr>
              <a:t>MR Ruzza, G Tagliabue, P Contiero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66"/>
                </a:solidFill>
                <a:latin typeface="Verdana"/>
              </a:rPr>
              <a:t>Granada</a:t>
            </a:r>
            <a:r>
              <a:rPr b="1" lang="en-US" sz="1800" spc="-1" strike="noStrike">
                <a:solidFill>
                  <a:srgbClr val="336666"/>
                </a:solidFill>
                <a:latin typeface="Verdana"/>
              </a:rPr>
              <a:t>,</a:t>
            </a:r>
            <a:r>
              <a:rPr b="1" lang="en-GB" sz="1800" spc="-1" strike="noStrike">
                <a:solidFill>
                  <a:srgbClr val="336666"/>
                </a:solidFill>
                <a:latin typeface="Verdana"/>
              </a:rPr>
              <a:t> March 25</a:t>
            </a:r>
            <a:r>
              <a:rPr b="1" lang="en-GB" sz="1800" spc="-1" strike="noStrike" baseline="30000">
                <a:solidFill>
                  <a:srgbClr val="336666"/>
                </a:solidFill>
                <a:latin typeface="Verdana"/>
              </a:rPr>
              <a:t>th</a:t>
            </a:r>
            <a:r>
              <a:rPr b="1" lang="en-GB" sz="1800" spc="-1" strike="noStrike">
                <a:solidFill>
                  <a:srgbClr val="336666"/>
                </a:solidFill>
                <a:latin typeface="Verdana"/>
              </a:rPr>
              <a:t> 2009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66"/>
                </a:solidFill>
                <a:latin typeface="Verdana"/>
              </a:rPr>
              <a:t>Andalusian School of Public Health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46188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6666"/>
                </a:solidFill>
                <a:latin typeface="Arial"/>
              </a:rPr>
              <a:t>Sarcoma NOS 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(23 cases checked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6699"/>
                </a:solidFill>
                <a:latin typeface="Arial"/>
              </a:rPr>
              <a:t>Result of the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99"/>
                </a:solidFill>
                <a:latin typeface="Arial"/>
              </a:rPr>
              <a:t>10 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99"/>
                </a:solidFill>
                <a:latin typeface="Arial"/>
              </a:rPr>
              <a:t>4 G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99"/>
                </a:solidFill>
                <a:latin typeface="Arial"/>
              </a:rPr>
              <a:t>3 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99"/>
                </a:solidFill>
                <a:latin typeface="Arial"/>
              </a:rPr>
              <a:t>1 peripheral nerve sheath tum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99"/>
                </a:solidFill>
                <a:latin typeface="Arial"/>
              </a:rPr>
              <a:t>1 leiomyosarc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99"/>
                </a:solidFill>
                <a:latin typeface="Arial"/>
              </a:rPr>
              <a:t>1 non sarcoma (clinical records to be revi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99"/>
                </a:solidFill>
                <a:latin typeface="Arial"/>
              </a:rPr>
              <a:t>1 osteosarc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99"/>
                </a:solidFill>
                <a:latin typeface="Arial"/>
              </a:rPr>
              <a:t>1 rabdoid sarc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99"/>
                </a:solidFill>
                <a:latin typeface="Arial"/>
              </a:rPr>
              <a:t>1 alveolar sarc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659640" y="5840280"/>
            <a:ext cx="221292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66"/>
                </a:solidFill>
                <a:latin typeface="Arial"/>
              </a:rPr>
              <a:t>Mesotheliom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766880" y="373356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agnostic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ality of follow-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99"/>
                </a:solidFill>
                <a:latin typeface="Arial"/>
              </a:rPr>
              <a:t>We revised 12 cases still alive three years after diagnosis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46188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6666"/>
                </a:solidFill>
                <a:latin typeface="Arial"/>
              </a:rPr>
              <a:t>Mesothelioma</a:t>
            </a:r>
            <a:br>
              <a:rPr sz="3800"/>
            </a:b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(12 cases checked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99"/>
                </a:solidFill>
                <a:latin typeface="Arial"/>
              </a:rPr>
              <a:t>Result of the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666699"/>
                </a:solidFill>
                <a:latin typeface="Arial"/>
              </a:rPr>
              <a:t>7 mesothelioma (all surgically treated, some of them received also chemo+radiotherapy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666699"/>
                </a:solidFill>
                <a:latin typeface="Arial"/>
              </a:rPr>
              <a:t>4 revision of the clinical record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666699"/>
                </a:solidFill>
                <a:latin typeface="Arial"/>
              </a:rPr>
              <a:t>1 breast carcinoma, M+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666699"/>
                </a:solidFill>
                <a:latin typeface="Arial"/>
              </a:rPr>
              <a:t>1 leiomyosarcoma of the lu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659640" y="5840280"/>
            <a:ext cx="221292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6666"/>
                </a:solidFill>
                <a:latin typeface="Arial"/>
              </a:rPr>
              <a:t>Conclusion (1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Larynx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the majority of NOS case were squamous cell carcino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denocarcinoma of nasal caviti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subsite for half of the cases was defin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Eye NO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subsite for the majority of the cases was specifi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arcoma NO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a little bit less than 50% was confi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Mesothelioma: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7 of 12 confirmed (surgically treated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6666"/>
                </a:solidFill>
                <a:latin typeface="Arial"/>
              </a:rPr>
              <a:t>Conclusion (2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t is possible to improve data quali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UROCARE-5, will stress the check on morph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revision of the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nformatised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ossier of the cases permits in many cases to collect information on stage and trea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igh resolution studies are fea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666699"/>
                </a:solidFill>
                <a:latin typeface="Arial"/>
              </a:rPr>
              <a:t>Consider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6666"/>
                </a:solidFill>
                <a:latin typeface="Arial"/>
              </a:rPr>
              <a:t>che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Varese province, about 800,000 inhabit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ases diagnosed 1995-199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eck done during 200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nformatised notes rivised on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508720" y="333360"/>
            <a:ext cx="33638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6666"/>
                </a:solidFill>
                <a:latin typeface="Arial"/>
              </a:rPr>
              <a:t>Laryn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ll the ICD-O morphology 80003, 80103, 80203 (NOS and undifferentiated carcinom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11 cases to be revi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08720" y="333360"/>
            <a:ext cx="33638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6666"/>
                </a:solidFill>
                <a:latin typeface="Arial"/>
              </a:rPr>
              <a:t>Larynx</a:t>
            </a:r>
            <a:r>
              <a:rPr b="1" lang="en-US" sz="3600" spc="-1" strike="noStrike">
                <a:solidFill>
                  <a:srgbClr val="336666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23385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99"/>
                </a:solidFill>
                <a:latin typeface="Arial"/>
              </a:rPr>
              <a:t>Result of the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 squamous cell carcin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 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undifferenti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thyroid carcin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659640" y="5840280"/>
            <a:ext cx="221292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Arial"/>
              </a:rPr>
              <a:t>Ethmoid adenocarcinoma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ubsite (ethmoid sin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Underestimation of the inc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urvival figures bia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659640" y="5840280"/>
            <a:ext cx="221292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66"/>
                </a:solidFill>
                <a:latin typeface="Arial"/>
              </a:rPr>
              <a:t>Nasal cavities</a:t>
            </a: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66"/>
                </a:solidFill>
                <a:latin typeface="Arial"/>
              </a:rPr>
              <a:t>adenocarcinom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336666"/>
                </a:solidFill>
                <a:latin typeface="Arial"/>
              </a:rPr>
              <a:t>(C319 and 318, and adenocarcinom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23385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1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99"/>
                </a:solidFill>
                <a:latin typeface="Arial"/>
              </a:rPr>
              <a:t>Result of the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 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 M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 overlapping ethmoid&amp;maxil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 ethm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maxillary 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659640" y="5840280"/>
            <a:ext cx="2212920" cy="757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547640" y="2349360"/>
            <a:ext cx="1872000" cy="574920"/>
          </a:xfrm>
          <a:prstGeom prst="rect">
            <a:avLst/>
          </a:prstGeom>
          <a:noFill/>
          <a:ln w="9360">
            <a:solidFill>
              <a:srgbClr val="99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Arial"/>
              </a:rPr>
              <a:t>Uveal melanoma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33360" y="33573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We revised all C699 (eyes NOS)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ncidence (underestima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urvival (overestimat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659640" y="5840280"/>
            <a:ext cx="221292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Arial"/>
              </a:rPr>
              <a:t>Uveal melanoma </a:t>
            </a:r>
            <a:br>
              <a:rPr sz="3600"/>
            </a:br>
            <a:r>
              <a:rPr b="0" lang="en-US" sz="3600" spc="-1" strike="noStrike">
                <a:solidFill>
                  <a:srgbClr val="336666"/>
                </a:solidFill>
                <a:latin typeface="Arial"/>
              </a:rPr>
              <a:t>11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9890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6699"/>
                </a:solidFill>
                <a:latin typeface="Arial"/>
              </a:rPr>
              <a:t>Result of the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4 Uveal melano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 lympho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 spino, skin or conjunctiva (clinical records to be revis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 NOS (clinical records to be revis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 melanoma, skin (clinical records to be revis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 spindle cell melanoma of the sk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realised that from Varese province many patients moved to Zurich and Lausanne for radi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66"/>
                </a:solidFill>
                <a:latin typeface="Arial"/>
              </a:rPr>
              <a:t>Sarcoma NOS</a:t>
            </a:r>
            <a:br>
              <a:rPr sz="4400"/>
            </a:b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ICD-O morphology code 88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nostic 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Arial"/>
              </a:rPr>
              <a:t>bu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We revised a sample of cases (n.2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940360" y="189000"/>
            <a:ext cx="2932200" cy="10033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133720" y="5334120"/>
            <a:ext cx="6095880" cy="76176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3:28:10Z</dcterms:created>
  <dc:creator>Istituto Nazionale Tumori</dc:creator>
  <dc:description/>
  <dc:language>en-US</dc:language>
  <cp:lastModifiedBy>Notebook</cp:lastModifiedBy>
  <dcterms:modified xsi:type="dcterms:W3CDTF">2009-03-25T08:08:45Z</dcterms:modified>
  <cp:revision>14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