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C1B-4689-434C-9766-193A4912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285-BC55-496F-9CD1-8AD00EDE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54E-3E54-415D-A029-BC760E5F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D47-7FFA-49C5-AF75-36D4BD07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1782-FCD5-4C84-B897-47DE0F45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9EDF-E5DE-4A7B-A643-89C2E99B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A61B-9A10-4B5D-B4F9-B44F7C17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53E7-1D38-4FE4-B2E3-8DB5EF05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48D8-3F9D-4E89-A69D-98B8B091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ED42-3118-4AC1-9E52-3A2E1516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D50C-C7EA-4A82-A73C-1033F19D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C19-5A11-436D-BB8E-B68B57B1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434F-C3ED-4A7C-9CF7-9C6ACD87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FDC3-6280-4D29-9829-D61E7FFF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3A1E-1E2D-4203-B459-A614387B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7FFF-6519-4498-A5B1-D2A1FEF5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A0FD-FF20-476F-9B0F-82FBBF12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31D-5C86-44D5-A987-EAD09DE4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6CF-DFD9-4033-824C-EAC49707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06B-1983-4E14-BFD8-81EB8553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1B4-B163-456B-BB95-5AC21880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484-80B8-497F-9627-2CAC6354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32C-F6FF-43AB-9745-B198AAB9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87BA-4DB6-4899-8E37-05BD12DA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93F4-0CA5-437A-932E-3317FF5F3CAE}" type="slidenum">
              <a:rPr b="0" lang="en-GB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1255-0A28-4B25-9388-C8CD3429471A}" type="slidenum">
              <a:rPr b="0" lang="en-GB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35320" y="2163960"/>
            <a:ext cx="5091120" cy="32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ARECARE  projec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Verdana"/>
              </a:rPr>
              <a:t>Data quality check in the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Verdana"/>
              </a:rPr>
              <a:t>Lombardy Cancer Registr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66"/>
                </a:solidFill>
                <a:latin typeface="Verdana"/>
              </a:rPr>
              <a:t>MR Ruzza, G Tagliabue, P Contier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66"/>
                </a:solidFill>
                <a:latin typeface="Verdana"/>
              </a:rPr>
              <a:t>Granada</a:t>
            </a:r>
            <a:r>
              <a:rPr b="1" lang="en-US" sz="1800" spc="-1" strike="noStrike">
                <a:solidFill>
                  <a:srgbClr val="336666"/>
                </a:solidFill>
                <a:latin typeface="Verdana"/>
              </a:rPr>
              <a:t>,</a:t>
            </a:r>
            <a:r>
              <a:rPr b="1" lang="en-GB" sz="1800" spc="-1" strike="noStrike">
                <a:solidFill>
                  <a:srgbClr val="336666"/>
                </a:solidFill>
                <a:latin typeface="Verdana"/>
              </a:rPr>
              <a:t> March 25</a:t>
            </a:r>
            <a:r>
              <a:rPr b="1" lang="en-GB" sz="1800" spc="-1" strike="noStrike" baseline="30000">
                <a:solidFill>
                  <a:srgbClr val="336666"/>
                </a:solidFill>
                <a:latin typeface="Verdana"/>
              </a:rPr>
              <a:t>th</a:t>
            </a:r>
            <a:r>
              <a:rPr b="1" lang="en-GB" sz="1800" spc="-1" strike="noStrike">
                <a:solidFill>
                  <a:srgbClr val="336666"/>
                </a:solidFill>
                <a:latin typeface="Verdana"/>
              </a:rPr>
              <a:t> 2009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66"/>
                </a:solidFill>
                <a:latin typeface="Verdana"/>
              </a:rPr>
              <a:t>Andalusian School of Public Healt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46188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66"/>
                </a:solidFill>
                <a:latin typeface="Arial"/>
              </a:rPr>
              <a:t>Sarcoma NOS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(23 cases checked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99"/>
                </a:solidFill>
                <a:latin typeface="Arial"/>
              </a:rPr>
              <a:t>Result of the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10 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4 G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3 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1 peripheral nerve sheath tum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1 leiomyosarc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1 non sarcoma (clinical records to be revi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1 osteosarc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1 rabdoid sarc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1 alveolar sarc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659640" y="5840280"/>
            <a:ext cx="221292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66"/>
                </a:solidFill>
                <a:latin typeface="Arial"/>
              </a:rPr>
              <a:t>Mesotheliom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766880" y="37335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agnostic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ality of follow-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Arial"/>
              </a:rPr>
              <a:t>We revised 12 cases still alive three years after diagnosis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46188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66"/>
                </a:solidFill>
                <a:latin typeface="Arial"/>
              </a:rPr>
              <a:t>Mesothelioma</a:t>
            </a:r>
            <a:br>
              <a:rPr sz="3800"/>
            </a:b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(12 cases checked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Arial"/>
              </a:rPr>
              <a:t>Result of the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666699"/>
                </a:solidFill>
                <a:latin typeface="Arial"/>
              </a:rPr>
              <a:t>7 mesothelioma (all surgically treated, some of them received also chemo+radiotherapy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666699"/>
                </a:solidFill>
                <a:latin typeface="Arial"/>
              </a:rPr>
              <a:t>4 revision of the clinical record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666699"/>
                </a:solidFill>
                <a:latin typeface="Arial"/>
              </a:rPr>
              <a:t>1 breast carcinoma, M+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666699"/>
                </a:solidFill>
                <a:latin typeface="Arial"/>
              </a:rPr>
              <a:t>1 leiomyosarcoma of the lu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659640" y="5840280"/>
            <a:ext cx="221292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6666"/>
                </a:solidFill>
                <a:latin typeface="Arial"/>
              </a:rPr>
              <a:t>Conclusion (1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Larynx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the majority of NOS case were squamous cell carcin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denocarcinoma of nasal caviti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subsite for half of the cases was def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ye N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subsite for the majority of the cases was specif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arcoma N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a little bit less than 50% was confi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esothelioma: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7 of 12 confirmed (surgically treate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6666"/>
                </a:solidFill>
                <a:latin typeface="Arial"/>
              </a:rPr>
              <a:t>Conclusion (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t is possible to improve data qual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UROCARE-5, will stress the check on morph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revision of the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formatised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ossier of the cases permits in many cases to collect information on stage and trea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 resolution studies are fea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666699"/>
                </a:solidFill>
                <a:latin typeface="Arial"/>
              </a:rPr>
              <a:t>Consider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6666"/>
                </a:solidFill>
                <a:latin typeface="Arial"/>
              </a:rPr>
              <a:t>che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Varese province, about 800,000 inhabit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ses diagnosed 1995-199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eck done during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formatised notes rivised o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08720" y="333360"/>
            <a:ext cx="3363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6666"/>
                </a:solidFill>
                <a:latin typeface="Arial"/>
              </a:rPr>
              <a:t>Laryn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ll the ICD-O morphology 80003, 80103, 80203 (NOS and undifferentiated carcinom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1 cases to be rev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333360"/>
            <a:ext cx="3363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Larynx</a:t>
            </a:r>
            <a:r>
              <a:rPr b="1" lang="en-US" sz="3600" spc="-1" strike="noStrike">
                <a:solidFill>
                  <a:srgbClr val="3366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23385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Arial"/>
              </a:rPr>
              <a:t>Result of the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 squamous cell carcin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undifferent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thyroid carcin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659640" y="5840280"/>
            <a:ext cx="221292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Arial"/>
              </a:rPr>
              <a:t>Ethmoid adenocarcinom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bsite (ethmoid sin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Underestimation of the inc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rvival figures bi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59640" y="5840280"/>
            <a:ext cx="221292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Nasal cavities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adenocarcinom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(C319 and 318, and adenocarcinom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23385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1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Arial"/>
              </a:rPr>
              <a:t>Result of the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 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M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overlapping ethmoid&amp;maxil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ethm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maxillary 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59640" y="5840280"/>
            <a:ext cx="2212920" cy="757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47640" y="2349360"/>
            <a:ext cx="1872000" cy="574920"/>
          </a:xfrm>
          <a:prstGeom prst="rect">
            <a:avLst/>
          </a:prstGeom>
          <a:noFill/>
          <a:ln w="93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Arial"/>
              </a:rPr>
              <a:t>Uveal melanom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360" y="33573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We revised all C699 (eyes NOS)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cidence (underestim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rvival (overestimat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59640" y="5840280"/>
            <a:ext cx="221292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Arial"/>
              </a:rPr>
              <a:t>Uveal melanoma </a:t>
            </a:r>
            <a:br>
              <a:rPr sz="3600"/>
            </a:br>
            <a:r>
              <a:rPr b="0" lang="en-US" sz="3600" spc="-1" strike="noStrike">
                <a:solidFill>
                  <a:srgbClr val="336666"/>
                </a:solidFill>
                <a:latin typeface="Arial"/>
              </a:rPr>
              <a:t>11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890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99"/>
                </a:solidFill>
                <a:latin typeface="Arial"/>
              </a:rPr>
              <a:t>Result of the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4 Uveal melano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 lymph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 spino, skin or conjunctiva (clinical records to be revis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 NOS (clinical records to be revis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 melanoma, skin (clinical records to be revis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 spindle cell melanoma of the sk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realised that from Varese province many patients moved to Zurich and Lausanne for radi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66"/>
                </a:solidFill>
                <a:latin typeface="Arial"/>
              </a:rPr>
              <a:t>Sarcoma NOS</a:t>
            </a:r>
            <a:br>
              <a:rPr sz="4400"/>
            </a:b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ICD-O morphology code 88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tic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We revised a sample of cases (n.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932200" cy="1003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33720" y="5334120"/>
            <a:ext cx="6095880" cy="7617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3:28:10Z</dcterms:created>
  <dc:creator>Istituto Nazionale Tumori</dc:creator>
  <dc:description/>
  <dc:language>en-US</dc:language>
  <cp:lastModifiedBy>Notebook</cp:lastModifiedBy>
  <dcterms:modified xsi:type="dcterms:W3CDTF">2009-03-25T08:08:45Z</dcterms:modified>
  <cp:revision>14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