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-597" r="0" b="0"/>
          <a:stretch/>
        </p:blipFill>
        <p:spPr>
          <a:xfrm>
            <a:off x="2268360" y="27000"/>
            <a:ext cx="68756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381480"/>
            <a:ext cx="1685880" cy="3476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240" y="6591240"/>
            <a:ext cx="684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980" r="0" b="0"/>
          <a:stretch/>
        </p:blipFill>
        <p:spPr>
          <a:xfrm>
            <a:off x="-3240" y="981000"/>
            <a:ext cx="2116080" cy="446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71640" cy="94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7086600" y="6280200"/>
            <a:ext cx="196848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936720"/>
            <a:ext cx="2987640" cy="71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157720"/>
            <a:ext cx="826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54000" y="88920"/>
            <a:ext cx="21052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23760"/>
            <a:ext cx="914400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80"/>
                </a:solidFill>
                <a:latin typeface="Arial"/>
              </a:rPr>
              <a:t>Cancer Registries and Rare Cancers:</a:t>
            </a:r>
            <a:br>
              <a:rPr sz="4000"/>
            </a:br>
            <a:r>
              <a:rPr b="1" lang="en-GB" sz="4000" spc="-1" strike="noStrike">
                <a:solidFill>
                  <a:srgbClr val="800080"/>
                </a:solidFill>
                <a:latin typeface="Arial"/>
              </a:rPr>
              <a:t>Data quality and supplementary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013360"/>
            <a:ext cx="5184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5562720"/>
            <a:ext cx="485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800080"/>
                </a:solidFill>
                <a:latin typeface="Palatino Linotype"/>
              </a:rPr>
              <a:t>Carmen Martínez-Garc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800080"/>
                </a:solidFill>
                <a:latin typeface="Palatino Linotype"/>
              </a:rPr>
              <a:t>Granada </a:t>
            </a:r>
            <a:r>
              <a:rPr b="0" i="1" lang="en-GB" sz="2000" spc="-1" strike="noStrike">
                <a:solidFill>
                  <a:srgbClr val="800080"/>
                </a:solidFill>
                <a:latin typeface="Palatino Linotype"/>
              </a:rPr>
              <a:t>Cancer Regis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0" i="1" lang="en-GB" sz="2000" spc="-1" strike="noStrike">
                <a:solidFill>
                  <a:srgbClr val="800080"/>
                </a:solidFill>
                <a:latin typeface="Palatino Linotype"/>
              </a:rPr>
              <a:t>Andalusian School of Public Health.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398840"/>
            <a:ext cx="84582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WP6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Second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Meeting. Andalusian School of Public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Granada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25 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000"/>
            </a:b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Glial Tumour of the CNS and Pineal Gland, by country. 1995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71480" y="1600200"/>
          <a:ext cx="5801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600200"/>
                    <a:ext cx="5801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000"/>
            </a:b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Glial Tumour of the CNS and Pineal Gland, by Area. 1995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38280" y="2257560"/>
          <a:ext cx="6067440" cy="32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2257560"/>
                    <a:ext cx="60674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3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Arial"/>
              </a:rPr>
              <a:t>Data Quality WP6 </a:t>
            </a:r>
            <a:br>
              <a:rPr sz="4400"/>
            </a:b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What have we done until now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052640"/>
            <a:ext cx="861048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To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explore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the 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ill defined sites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By registry and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To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explore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th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orfology 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By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000"/>
            </a:br>
            <a:r>
              <a:rPr b="0" lang="es-ES" sz="4000" spc="-1" strike="noStrike">
                <a:solidFill>
                  <a:srgbClr val="800080"/>
                </a:solidFill>
                <a:latin typeface="Palatino Linotype"/>
              </a:rPr>
              <a:t>i</a:t>
            </a:r>
            <a:r>
              <a:rPr b="0" lang="es-ES" sz="2800" spc="-1" strike="noStrike">
                <a:solidFill>
                  <a:srgbClr val="800080"/>
                </a:solidFill>
                <a:latin typeface="Palatino Linotype"/>
              </a:rPr>
              <a:t>ll-defined sites</a:t>
            </a: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5160960"/>
        </p:xfrm>
        <a:graphic>
          <a:graphicData uri="http://schemas.openxmlformats.org/drawingml/2006/table">
            <a:tbl>
              <a:tblPr/>
              <a:tblGrid>
                <a:gridCol w="7176960"/>
                <a:gridCol w="1052640"/>
              </a:tblGrid>
              <a:tr h="459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other and unspecified parts of mouth and Mouth,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-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po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ynx,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ynx,NOS and Overlapping lesion of lip, oral cavity and pharyn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0-1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rectum, anus and anal ca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stinal tract, NOS and  Gastrointestinal tract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0-2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 heart, mediastinum, and ple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 respiratory tract, NOS-ILL-defined withing respiratory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0-3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rus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 female genital organs- Female genital tract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.8-5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 male genital organs- Male genital tract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8-6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 urinary organs-Urinary system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.8-6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brain and central nervous system-Nervous system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.8-7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lapping lesion of endocrine glands and related structures-Endocrine gland, 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.8-7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, face or neck, NOS- Overlapping lesion of  ill-defined 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.0-7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known primary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000"/>
            </a:b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ill-defined sites. </a:t>
            </a:r>
            <a:r>
              <a:rPr b="1" lang="en-GB" sz="2000" spc="-1" strike="noStrike">
                <a:solidFill>
                  <a:srgbClr val="800080"/>
                </a:solidFill>
                <a:latin typeface="Palatino Linotype"/>
              </a:rPr>
              <a:t>Number of  incident cases and percentage by site and Registry. 1995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77480" cy="25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80787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43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Arial"/>
              </a:rPr>
              <a:t>Data Quality WP6</a:t>
            </a:r>
            <a:br>
              <a:rPr sz="4400"/>
            </a:br>
            <a:r>
              <a:rPr b="0" lang="es-ES" sz="4400" spc="-1" strike="noStrike">
                <a:solidFill>
                  <a:srgbClr val="800080"/>
                </a:solidFill>
                <a:latin typeface="Arial"/>
              </a:rPr>
              <a:t>Morphology N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113" t="31107" r="9843" b="23544"/>
          <a:stretch/>
        </p:blipFill>
        <p:spPr>
          <a:xfrm>
            <a:off x="179280" y="1989000"/>
            <a:ext cx="8783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5158" t="23544" r="19881" b="7478"/>
          <a:stretch/>
        </p:blipFill>
        <p:spPr>
          <a:xfrm>
            <a:off x="755640" y="105264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Palatino Linotype"/>
              </a:rPr>
              <a:t>Data Quality.WP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362240"/>
            <a:ext cx="889308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3300"/>
                </a:solidFill>
                <a:latin typeface="Arial"/>
              </a:rPr>
              <a:t>Proposal of short list of rare cancers of high priority: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Mesothelioma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mary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Angiosarcoma of the liver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mary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Sarcoma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diagnostic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Oral cavity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secondary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CNS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ppropiateness of treatment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Germ cell tumours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ppropiateness of treatment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Leukaemia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ppropiateness of treatment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ndocrine tumours: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data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80"/>
                </a:solidFill>
                <a:latin typeface="Arial"/>
              </a:rPr>
              <a:t>Other sugestions for quality contr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Palatino Linotype"/>
              </a:rPr>
              <a:t>Data Quality Report. WP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295280"/>
            <a:ext cx="876312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The report  will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Results on quality control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of rare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comple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priorit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List of markers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that may improve the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accuracy of     the diagnosis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of selected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Proposal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for improving the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quality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comparability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in terms of completeness and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The Report (D15) will be done by October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Palatino Linotype"/>
              </a:rPr>
              <a:t>Data Quality Seminar. WP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6280" y="1143000"/>
            <a:ext cx="8134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Seminar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on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classification and coding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problems for selected rare cancers addressed to profesionals linked with population-based cancer regis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Linked with WP4 and WP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Collaboration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uropean Network of Cancer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Northern Cancer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Groupe pour l’Epidemiologie et l’Enregistrement du Cancer dans les Pays de Langue Latine (GR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The seminar will be due by April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49228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2720" y="476280"/>
            <a:ext cx="7846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0080"/>
                </a:solidFill>
                <a:latin typeface="Arial"/>
              </a:rPr>
              <a:t>WP6. Objecti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9000"/>
            <a:ext cx="8569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To assess the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validity, completeness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inter-registry standardisation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of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population-based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ancer registry data on rare canc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To improve 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the data quality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and 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arability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of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incidence, prevalence and survival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of rare cancers among European population-based cancer registries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 (PBCR)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280" y="25992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Palatino Linotype"/>
              </a:rPr>
              <a:t>Difficulties studying rare cancers:</a:t>
            </a:r>
            <a:br>
              <a:rPr sz="4400"/>
            </a:br>
            <a:r>
              <a:rPr b="1" lang="en-GB" sz="4400" spc="-1" strike="noStrike">
                <a:solidFill>
                  <a:srgbClr val="990099"/>
                </a:solidFill>
                <a:latin typeface="Palatino Linotype"/>
              </a:rPr>
              <a:t>	</a:t>
            </a:r>
            <a:r>
              <a:rPr b="1" lang="en-GB" sz="4400" spc="-1" strike="noStrike">
                <a:solidFill>
                  <a:srgbClr val="990099"/>
                </a:solidFill>
                <a:latin typeface="Palatino Linotype"/>
              </a:rPr>
              <a:t>quality and comparability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828800"/>
            <a:ext cx="867564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Palatino Linotype"/>
              </a:rPr>
              <a:t>Low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number of cases: </a:t>
            </a:r>
            <a:r>
              <a:rPr b="1" lang="en-GB" sz="2800" spc="-1" strike="noStrike">
                <a:solidFill>
                  <a:srgbClr val="800080"/>
                </a:solidFill>
                <a:latin typeface="Palatino Linotype"/>
              </a:rPr>
              <a:t>random variations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in </a:t>
            </a:r>
            <a:r>
              <a:rPr b="1" lang="en-GB" sz="2800" spc="-1" strike="noStrike">
                <a:solidFill>
                  <a:srgbClr val="003300"/>
                </a:solidFill>
                <a:latin typeface="Palatino Linotype"/>
              </a:rPr>
              <a:t>incidence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and </a:t>
            </a:r>
            <a:r>
              <a:rPr b="1" lang="en-GB" sz="2800" spc="-1" strike="noStrike">
                <a:solidFill>
                  <a:srgbClr val="003300"/>
                </a:solidFill>
                <a:latin typeface="Palatino Linotype"/>
              </a:rPr>
              <a:t>survival, 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as well as in</a:t>
            </a:r>
            <a:r>
              <a:rPr b="1" lang="en-GB" sz="2800" spc="-1" strike="noStrike">
                <a:solidFill>
                  <a:srgbClr val="003300"/>
                </a:solidFill>
                <a:latin typeface="Palatino Linotype"/>
              </a:rPr>
              <a:t> quality indicators,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for </a:t>
            </a:r>
            <a:r>
              <a:rPr b="0" lang="en-GB" sz="2800" spc="-1" strike="noStrike">
                <a:solidFill>
                  <a:srgbClr val="000000"/>
                </a:solidFill>
                <a:latin typeface="Palatino Linotype"/>
              </a:rPr>
              <a:t>small</a:t>
            </a:r>
            <a:r>
              <a:rPr b="0" lang="en-GB" sz="2800" spc="-1" strike="noStrike">
                <a:solidFill>
                  <a:srgbClr val="993300"/>
                </a:solidFill>
                <a:latin typeface="Palatino Linotype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Some cancers are new entities that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049"/>
              </a:spcBef>
              <a:buClr>
                <a:srgbClr val="80008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Palatino Linotype"/>
              </a:rPr>
              <a:t>technology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for diagnosis (laboratory, imaging..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049"/>
              </a:spcBef>
              <a:buClr>
                <a:srgbClr val="80008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Palatino Linotype"/>
              </a:rPr>
              <a:t>training</a:t>
            </a:r>
            <a:r>
              <a:rPr b="0" lang="en-GB" sz="2800" spc="-1" strike="noStrike">
                <a:solidFill>
                  <a:srgbClr val="003300"/>
                </a:solidFill>
                <a:latin typeface="Palatino Linotype"/>
              </a:rPr>
              <a:t> of professiona</a:t>
            </a:r>
            <a:r>
              <a:rPr b="0" lang="es-ES" sz="2800" spc="-1" strike="noStrike">
                <a:solidFill>
                  <a:srgbClr val="003300"/>
                </a:solidFill>
                <a:latin typeface="Palatino Linotype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049"/>
              </a:spcBef>
              <a:buClr>
                <a:srgbClr val="80008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s-ES" sz="2800" spc="-1" strike="noStrike">
                <a:solidFill>
                  <a:srgbClr val="800080"/>
                </a:solidFill>
                <a:latin typeface="Palatino Linotype"/>
              </a:rPr>
              <a:t>training</a:t>
            </a:r>
            <a:r>
              <a:rPr b="0" lang="es-ES" sz="2800" spc="-1" strike="noStrike">
                <a:solidFill>
                  <a:srgbClr val="003300"/>
                </a:solidFill>
                <a:latin typeface="Palatino Linotype"/>
              </a:rPr>
              <a:t> of registr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Palatino Linotype"/>
              </a:rPr>
              <a:t>Some morphological entities in ICD-O-3 don’t exist  in ICD-O-1 or ICD-O-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02160" y="0"/>
            <a:ext cx="4641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240" y="13222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Palatino Linotype"/>
              </a:rPr>
              <a:t>Comparing data from Population-based Cancer Registries: Art or Scien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80"/>
                </a:solidFill>
                <a:latin typeface="Palatino Linotype"/>
              </a:rPr>
              <a:t>C</a:t>
            </a: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omparing data from population- based cancer regis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555920"/>
            <a:ext cx="876312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Palatino Linotype"/>
              </a:rPr>
              <a:t>Some aspects to be taken into account when interpreting results</a:t>
            </a:r>
            <a:r>
              <a:rPr b="0" lang="en-GB" sz="3200" spc="-1" strike="noStrike">
                <a:solidFill>
                  <a:srgbClr val="003300"/>
                </a:solidFill>
                <a:latin typeface="Palatino Linotype"/>
              </a:rPr>
              <a:t> from </a:t>
            </a:r>
            <a:r>
              <a:rPr b="0" lang="es-ES" sz="3200" spc="-1" strike="noStrike">
                <a:solidFill>
                  <a:srgbClr val="003300"/>
                </a:solidFill>
                <a:latin typeface="Palatino Linotype"/>
              </a:rPr>
              <a:t>PB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Socioeconomic conditions and health system in th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Definition of incident case: /0, /1, /2 and 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R</a:t>
            </a:r>
            <a:r>
              <a:rPr b="0" lang="en-GB" sz="2400" spc="-1" strike="noStrike">
                <a:solidFill>
                  <a:srgbClr val="003300"/>
                </a:solidFill>
                <a:latin typeface="Palatino Linotype"/>
              </a:rPr>
              <a:t>ules for collecting coding and classifying</a:t>
            </a:r>
            <a:r>
              <a:rPr b="0" lang="es-ES" sz="2400" spc="-1" strike="noStrike">
                <a:solidFill>
                  <a:srgbClr val="003300"/>
                </a:solidFill>
                <a:latin typeface="Palatino Linotype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Palatino Linotype"/>
              </a:rPr>
              <a:t>The “traditional” quality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Palatino Linotype"/>
              </a:rPr>
              <a:t>Consider for each </a:t>
            </a:r>
            <a:r>
              <a:rPr b="0" lang="en-GB" sz="2400" spc="-1" strike="noStrike">
                <a:solidFill>
                  <a:srgbClr val="800080"/>
                </a:solidFill>
                <a:latin typeface="Palatino Linotype"/>
              </a:rPr>
              <a:t>age group, site or morphology</a:t>
            </a:r>
            <a:r>
              <a:rPr b="0" lang="en-GB" sz="2400" spc="-1" strike="noStrike">
                <a:solidFill>
                  <a:srgbClr val="003300"/>
                </a:solidFill>
                <a:latin typeface="Palatino Linotype"/>
              </a:rPr>
              <a:t> the circumstances that may be affected by a selection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1066680"/>
            <a:ext cx="856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When comparing data “each tumour” or group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 of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tumours must be studied using  different approaches; taking into account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age, risk factors, diagnostic resource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 (more or less advanced technology),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treatment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 (new drugs, specialized centres for treatment),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screening program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 in the region (neuroblastoma in children) and other circumstances that may influence incidence and sur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1890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0080"/>
                </a:solidFill>
                <a:latin typeface="Palatino Linotype"/>
              </a:rPr>
              <a:t>Conside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99"/>
                </a:solidFill>
                <a:latin typeface="Palatino Linotype"/>
              </a:rPr>
              <a:t>Some sites with speci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1600" y="1341000"/>
            <a:ext cx="87440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lnSpc>
                <a:spcPct val="80000"/>
              </a:lnSpc>
              <a:spcBef>
                <a:spcPts val="1599"/>
              </a:spcBef>
              <a:buClr>
                <a:srgbClr val="9900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Palatino Linotype"/>
              </a:rPr>
              <a:t> </a:t>
            </a:r>
            <a:r>
              <a:rPr b="1" lang="es-ES_tradnl" sz="3200" spc="-1" strike="noStrike">
                <a:solidFill>
                  <a:srgbClr val="990099"/>
                </a:solidFill>
                <a:latin typeface="Palatino Linotype"/>
              </a:rPr>
              <a:t>Bladder 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 algn="just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Not enough tissue for diagnosis of invasion: </a:t>
            </a:r>
            <a:r>
              <a:rPr b="1" lang="es-ES_tradnl" sz="2000" spc="-1" strike="noStrike">
                <a:solidFill>
                  <a:srgbClr val="990099"/>
                </a:solidFill>
                <a:latin typeface="Palatino Linotype"/>
              </a:rPr>
              <a:t>/2 or /3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 algn="just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Different criteria for coding the cases </a:t>
            </a:r>
            <a:r>
              <a:rPr b="1" lang="es-ES_tradnl" sz="2000" spc="-1" strike="noStrike">
                <a:solidFill>
                  <a:srgbClr val="990099"/>
                </a:solidFill>
                <a:latin typeface="Palatino Linotype"/>
              </a:rPr>
              <a:t>/1, /2 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801"/>
              </a:spcBef>
              <a:buClr>
                <a:srgbClr val="9900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99"/>
                </a:solidFill>
                <a:latin typeface="Palatino Linotype"/>
              </a:rPr>
              <a:t> </a:t>
            </a:r>
            <a:r>
              <a:rPr b="1" lang="es-ES_tradnl" sz="3200" spc="-1" strike="noStrike">
                <a:solidFill>
                  <a:srgbClr val="990099"/>
                </a:solidFill>
                <a:latin typeface="Palatino Linotype"/>
              </a:rPr>
              <a:t>Ovary can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 algn="just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Borderline tumours: </a:t>
            </a:r>
            <a:r>
              <a:rPr b="1" lang="es-ES_tradnl" sz="2000" spc="-1" strike="noStrike">
                <a:solidFill>
                  <a:srgbClr val="660033"/>
                </a:solidFill>
                <a:latin typeface="Palatino Linotype"/>
              </a:rPr>
              <a:t>/1</a:t>
            </a: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 in ICD-O-1, </a:t>
            </a:r>
            <a:r>
              <a:rPr b="1" lang="es-ES_tradnl" sz="2000" spc="-1" strike="noStrike">
                <a:solidFill>
                  <a:srgbClr val="660033"/>
                </a:solidFill>
                <a:latin typeface="Palatino Linotype"/>
              </a:rPr>
              <a:t>/3 </a:t>
            </a: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in ICD-O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801"/>
              </a:spcBef>
              <a:buClr>
                <a:srgbClr val="80008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Palatino Linotype"/>
              </a:rPr>
              <a:t> </a:t>
            </a:r>
            <a:r>
              <a:rPr b="1" lang="es-ES_tradnl" sz="3200" spc="-1" strike="noStrike">
                <a:solidFill>
                  <a:srgbClr val="990099"/>
                </a:solidFill>
                <a:latin typeface="Palatino Linotype"/>
              </a:rPr>
              <a:t>Neurological/ Intracranial tum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 algn="just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Inclusion of</a:t>
            </a:r>
            <a:r>
              <a:rPr b="1" lang="es-ES_tradnl" sz="2000" spc="-1" strike="noStrike">
                <a:solidFill>
                  <a:srgbClr val="008000"/>
                </a:solidFill>
                <a:latin typeface="Palatino Linotype"/>
              </a:rPr>
              <a:t> </a:t>
            </a:r>
            <a:r>
              <a:rPr b="1" lang="es-ES_tradnl" sz="2000" spc="-1" strike="noStrike">
                <a:solidFill>
                  <a:srgbClr val="660033"/>
                </a:solidFill>
                <a:latin typeface="Palatino Linotype"/>
              </a:rPr>
              <a:t>/0, /1 and /3 </a:t>
            </a:r>
            <a:r>
              <a:rPr b="1" lang="es-ES_tradnl" sz="2000" spc="-1" strike="noStrike">
                <a:solidFill>
                  <a:srgbClr val="008000"/>
                </a:solidFill>
                <a:latin typeface="Palatino Linotype"/>
              </a:rPr>
              <a:t>or only </a:t>
            </a:r>
            <a:r>
              <a:rPr b="1" lang="es-ES_tradnl" sz="2000" spc="-1" strike="noStrike">
                <a:solidFill>
                  <a:srgbClr val="660033"/>
                </a:solidFill>
                <a:latin typeface="Palatino Linotype"/>
              </a:rPr>
              <a:t>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99"/>
              </a:spcBef>
              <a:buClr>
                <a:srgbClr val="9900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99"/>
                </a:solidFill>
                <a:latin typeface="Palatino Linotype"/>
              </a:rPr>
              <a:t> </a:t>
            </a:r>
            <a:r>
              <a:rPr b="1" lang="es-ES_tradnl" sz="3200" spc="-1" strike="noStrike">
                <a:solidFill>
                  <a:srgbClr val="990099"/>
                </a:solidFill>
                <a:latin typeface="Palatino Linotype"/>
              </a:rPr>
              <a:t>Uveal melan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 algn="just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Palatino Linotype"/>
              </a:rPr>
              <a:t>Underascertainment when surgery is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8000"/>
                </a:solidFill>
                <a:latin typeface="Palatino Linotyp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7848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80"/>
                </a:solidFill>
                <a:latin typeface="Palatino Linotype"/>
              </a:rPr>
              <a:t>WP6 Part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839440" cy="67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Gemma Gatta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INT, Project Leader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Italy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Franco Berrino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INT, EUROCARE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Ricardo Capocaccia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ISS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tefano Ferreti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FCR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Adriano Giacomin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BCR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Torgil Möller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Lund UH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Maja Primic Žakelj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IOL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lov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Jean Michel Lutz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NICER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wi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Juan A Virizuela (Oncologist)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SAS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Ricardo González-Cámpora (Anatomopath)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SAS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María José Sánchez (Epidemiologist)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EASP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Juan Manuel Melchor,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 EASP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Carmen Martínez García,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EASP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	</a:t>
            </a:r>
            <a:r>
              <a:rPr b="1" lang="es-ES" sz="2000" spc="-1" strike="noStrike">
                <a:solidFill>
                  <a:srgbClr val="003300"/>
                </a:solidFill>
                <a:latin typeface="Palatino Linotype"/>
              </a:rPr>
              <a:t>Samba Sowe </a:t>
            </a: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1981080"/>
            <a:ext cx="813924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99"/>
              </a:spcBef>
              <a:buClr>
                <a:srgbClr val="00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Palatino Linotype"/>
              </a:rPr>
              <a:t> 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To select the same </a:t>
            </a:r>
            <a:r>
              <a:rPr b="0" lang="en-GB" sz="3200" spc="-1" strike="noStrike">
                <a:solidFill>
                  <a:srgbClr val="800080"/>
                </a:solidFill>
                <a:latin typeface="Arial"/>
              </a:rPr>
              <a:t>data quality indicators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from the 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PBCR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participating in RARE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To be able to interpret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the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800080"/>
                </a:solidFill>
                <a:latin typeface="Arial"/>
              </a:rPr>
              <a:t>variability in incidence </a:t>
            </a:r>
            <a:r>
              <a:rPr b="0" lang="es-ES" sz="3200" spc="-1" strike="noStrike">
                <a:solidFill>
                  <a:srgbClr val="800080"/>
                </a:solidFill>
                <a:latin typeface="Arial"/>
              </a:rPr>
              <a:t>and</a:t>
            </a:r>
            <a:r>
              <a:rPr b="0" lang="en-GB" sz="3200" spc="-1" strike="noStrike">
                <a:solidFill>
                  <a:srgbClr val="800080"/>
                </a:solidFill>
                <a:latin typeface="Arial"/>
              </a:rPr>
              <a:t> survival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among 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these PBCR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To propose actions that </a:t>
            </a:r>
            <a:r>
              <a:rPr b="0" lang="en-GB" sz="3200" spc="-1" strike="noStrike">
                <a:solidFill>
                  <a:srgbClr val="800080"/>
                </a:solidFill>
                <a:latin typeface="Arial"/>
              </a:rPr>
              <a:t>improve</a:t>
            </a:r>
            <a:r>
              <a:rPr b="0" lang="es-ES" sz="3200" spc="-1" strike="noStrike">
                <a:solidFill>
                  <a:srgbClr val="800080"/>
                </a:solidFill>
                <a:latin typeface="Arial"/>
              </a:rPr>
              <a:t> the </a:t>
            </a:r>
            <a:r>
              <a:rPr b="0" lang="en-GB" sz="3200" spc="-1" strike="noStrike">
                <a:solidFill>
                  <a:srgbClr val="800080"/>
                </a:solidFill>
                <a:latin typeface="Arial"/>
              </a:rPr>
              <a:t>data’s quality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and compar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606600"/>
            <a:ext cx="6340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6988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0080"/>
                </a:solidFill>
                <a:latin typeface="Arial"/>
              </a:rPr>
              <a:t>What do we want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Arial"/>
              </a:rPr>
              <a:t>Data Quality.WP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557360"/>
            <a:ext cx="83059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Indicators used to evaluate </a:t>
            </a:r>
            <a:r>
              <a:rPr b="1" lang="es-ES" sz="2800" spc="-1" strike="noStrike">
                <a:solidFill>
                  <a:srgbClr val="800080"/>
                </a:solidFill>
                <a:latin typeface="Arial"/>
              </a:rPr>
              <a:t>completeness  and validity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in cancer regist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Basis of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%Microscopically verified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%Clinical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%Unkn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%Death Certifica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%Autops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3440" y="1641600"/>
            <a:ext cx="8531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Unknown primary site: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C80.0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Ill-defined site: C55.9 (uterus); C76.- (Thorax,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Ill-defined subsite: 4th digit 8 and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Morphology NOS ( 8000/3, 8001/3, 8010/3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Pathological review of specific cases/mark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Follow up indicator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3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Arial"/>
              </a:rPr>
              <a:t>Data Quality WP6 </a:t>
            </a:r>
            <a:br>
              <a:rPr sz="4400"/>
            </a:br>
            <a:r>
              <a:rPr b="1" lang="es-E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What have we done until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052640"/>
            <a:ext cx="861048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To calculate indicators on basis of diagnosis for some layer 1 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Epithelial: C30-31, C11, C07- C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Mesotheli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Central Nervous system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: Glial, Non glial, Meningi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spcBef>
                <a:spcPts val="1349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By registry, country an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270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000"/>
            </a:b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Epithelial Tumour of the Nasal Cavity and Sinuses, by country. 1995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122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80"/>
                </a:solidFill>
                <a:latin typeface="Palatino Linotype"/>
              </a:rPr>
              <a:t>Data Quality</a:t>
            </a:r>
            <a:br>
              <a:rPr sz="4000"/>
            </a:br>
            <a:r>
              <a:rPr b="1" lang="es-ES" sz="2000" spc="-1" strike="noStrike">
                <a:solidFill>
                  <a:srgbClr val="800080"/>
                </a:solidFill>
                <a:latin typeface="Palatino Linotype"/>
              </a:rPr>
              <a:t>Epithelial Tumour of the Nasal Cavity and Sinuses, by Area. 1995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552760"/>
          <a:ext cx="8229600" cy="262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52760"/>
                    <a:ext cx="822960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20:20Z</dcterms:created>
  <dc:creator>Unidad de Marketing</dc:creator>
  <dc:description/>
  <dc:language>en-US</dc:language>
  <cp:lastModifiedBy>cmartinez</cp:lastModifiedBy>
  <dcterms:modified xsi:type="dcterms:W3CDTF">2009-03-25T08:40:28Z</dcterms:modified>
  <cp:revision>125</cp:revision>
  <dc:subject/>
  <dc:title>Presentación de PowerPoint</dc:title>
</cp:coreProperties>
</file>