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EC36-1E7F-4341-A9C5-92D139BB3C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0E33-1FA4-4181-ACA7-A5EC27495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0C17-7198-4689-ADE6-432422CC57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E143-F05C-48DF-9CD3-F0C26568A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AE85-9B0B-473F-9DE3-0BD78DD29A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AC5-F2F3-4D8B-8808-4B579000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0FD-15A4-4D31-B1EA-FEA27578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52D-C236-4758-973A-782BDCAF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49B-4C15-4731-BBC7-53B1E28A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3F9D-9EC2-4EB5-BAFB-6E372B21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2F94-1BCB-4B14-947A-ED8A4885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3D85-DC97-4432-A63A-3A6D4C86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8441-7085-4FF5-BCB5-DC2B81B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8D42-6101-4A56-A366-6A8C820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5F0E-9864-4139-BE8A-4C13422C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58C6-38E0-446D-89DC-AB7B1879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917-7C1F-47B2-A0C2-7372FFC8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188-A5AB-44DB-8773-813C001E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BAEC-CC1D-458D-9985-D5FAB84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F5DE-6524-435A-AE4A-E64F9358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55EF-A0F6-4281-985C-80F4CC7D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185F-CBE8-4C0D-A7CD-12247DFB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D93-59B6-405E-93F0-3B7CC80D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A5C-2A20-4E7C-99D4-6170480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EEF-8146-4D87-9D83-C2B10B2C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A7E-EE99-4E27-800A-91999705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C87-E997-4864-883C-6F566E1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93D-DBC4-4E56-82AA-F004DD0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402-36D2-450C-BB80-08786E6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413E-5E34-4D22-AA2C-102F6185D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A70-54A5-4BBC-9347-ACB64B0DC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ef05"/>
                </a:solidFill>
                <a:latin typeface="Verdana"/>
              </a:rPr>
              <a:t>Data quality of leukaemia</a:t>
            </a:r>
            <a:br>
              <a:rPr sz="3200"/>
            </a:br>
            <a:r>
              <a:rPr b="0" i="1" lang="en-GB" sz="2400" spc="-1" strike="noStrike">
                <a:solidFill>
                  <a:srgbClr val="efef05"/>
                </a:solidFill>
                <a:latin typeface="Verdana"/>
              </a:rPr>
              <a:t>experiences in the Netherland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Tekstvak 7"/>
          <p:cNvSpPr/>
          <p:nvPr/>
        </p:nvSpPr>
        <p:spPr>
          <a:xfrm>
            <a:off x="3143160" y="4071960"/>
            <a:ext cx="51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tto Viss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msterdam Cancer Regis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Unspecified leukaemia code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etherlands Cancer Registry, 2001-2007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0" name="Grafiek 3"/>
          <p:cNvGraphicFramePr/>
          <p:nvPr/>
        </p:nvGraphicFramePr>
        <p:xfrm>
          <a:off x="393840" y="1905120"/>
          <a:ext cx="8381880" cy="43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Grafiek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905120"/>
                    <a:ext cx="8381880" cy="43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Unspecified AML code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etherlands Cancer Registry, 2001-2007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Grafiek 3"/>
          <p:cNvGraphicFramePr/>
          <p:nvPr/>
        </p:nvGraphicFramePr>
        <p:xfrm>
          <a:off x="390600" y="1909800"/>
          <a:ext cx="849780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Grafiek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909800"/>
                    <a:ext cx="84978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785520"/>
            <a:ext cx="7834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ef05"/>
                </a:solidFill>
                <a:latin typeface="Verdana"/>
              </a:rPr>
              <a:t>Myeloid neoplasm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5880" y="1643040"/>
          <a:ext cx="7772400" cy="4873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 Classification 4th edi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proliferative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L, typ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nic neutrophilic leukaem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nic eosinophilic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id and lymphoid neoplasms with eosinophe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dysplastic/myeloproliferative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L, atyp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M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dysplastic syndr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myeloid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y specific typ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leukaemias of ambiguous line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undifferentiated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phenotype acute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8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ef05"/>
                </a:solidFill>
                <a:latin typeface="Verdana"/>
              </a:rPr>
              <a:t>Lymphoid neoplasm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1655640"/>
          <a:ext cx="7772400" cy="4726080"/>
        </p:xfrm>
        <a:graphic>
          <a:graphicData uri="http://schemas.openxmlformats.org/drawingml/2006/table">
            <a:tbl>
              <a:tblPr/>
              <a:tblGrid>
                <a:gridCol w="4464000"/>
                <a:gridCol w="3308400"/>
              </a:tblGrid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 Classification 4th ed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ursor lymphoid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 B-cell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P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y cell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urkitt leukaem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 T-cell and NK-cell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P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LG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gressive NK-cell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ult T-cell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gkin lymph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iocytic and dendritic cell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-transplant lymphoproliferative disor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8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ef05"/>
                </a:solidFill>
                <a:latin typeface="Verdana"/>
              </a:rPr>
              <a:t>Aspecific codes &amp; diagnose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1655640"/>
          <a:ext cx="7772400" cy="2960640"/>
        </p:xfrm>
        <a:graphic>
          <a:graphicData uri="http://schemas.openxmlformats.org/drawingml/2006/table">
            <a:tbl>
              <a:tblPr/>
              <a:tblGrid>
                <a:gridCol w="1440000"/>
                <a:gridCol w="63324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hronic)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ymphoid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L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id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L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Chronic myeloid leukaem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785880" y="171468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des in ICD-O-3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ML, NOS M986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ypical CML, BCR-ABL positive M987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typical CML, BCR-ABL negative M987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317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esults of quality checks of CML, nos</a:t>
            </a:r>
            <a:br>
              <a:rPr sz="3200"/>
            </a:b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msterdam Cancer Registry, 2001-2007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Tekstvak 2"/>
          <p:cNvSpPr/>
          <p:nvPr/>
        </p:nvSpPr>
        <p:spPr>
          <a:xfrm>
            <a:off x="826920" y="198900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total 101 patients were checke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4 cases: other diagnosis (1 AML, 3 CMM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63 cases: typical C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5 cases: atypical C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9 cases: no further specification possible (no genetics available), 3 patients &lt; 75, 16 patients 75 or ol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Diagnosis of CML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msterdam Cancer Registry, 2001-2007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3" name="Grafiek 3"/>
          <p:cNvGraphicFramePr/>
          <p:nvPr/>
        </p:nvGraphicFramePr>
        <p:xfrm>
          <a:off x="395280" y="1916280"/>
          <a:ext cx="8582040" cy="43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Grafiek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58204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Verdana"/>
              </a:rPr>
              <a:t>Survival CML: &lt;75 yea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Afbeelding 4" descr="cml_75min.emf"/>
          <p:cNvPicPr/>
          <p:nvPr/>
        </p:nvPicPr>
        <p:blipFill>
          <a:blip r:embed="rId1"/>
          <a:stretch/>
        </p:blipFill>
        <p:spPr>
          <a:xfrm>
            <a:off x="1187280" y="1500120"/>
            <a:ext cx="6985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urvival CML: 75+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8" name="Afbeelding 4" descr="cml_75plus.emf"/>
          <p:cNvPicPr/>
          <p:nvPr/>
        </p:nvPicPr>
        <p:blipFill>
          <a:blip r:embed="rId1"/>
          <a:stretch/>
        </p:blipFill>
        <p:spPr>
          <a:xfrm>
            <a:off x="1000080" y="1500120"/>
            <a:ext cx="6858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12:02Z</dcterms:created>
  <dc:creator>Visser, Otto</dc:creator>
  <dc:description/>
  <dc:language>en-US</dc:language>
  <cp:lastModifiedBy>vissero</cp:lastModifiedBy>
  <cp:lastPrinted>2002-11-21T09:05:00Z</cp:lastPrinted>
  <dcterms:modified xsi:type="dcterms:W3CDTF">2009-03-23T14:53:24Z</dcterms:modified>
  <cp:revision>219</cp:revision>
  <dc:subject/>
  <dc:title>Verschillen in overleving tussen IKA en IKZ</dc:title>
</cp:coreProperties>
</file>