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76A8-0E8B-4E51-8149-83692A286DF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7963-FB82-41A7-86EE-14BFB4417C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B770-7AC0-4FF9-886D-FD171B3E3E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265D-9733-4310-BDE1-7256D42305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26BF-D8D6-45B7-B86A-08F4AF6B2F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6BF-0B60-45C6-A994-17623ED6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5B1-B8CD-4501-AAFB-2E833703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8D9-C4DF-4453-A967-C923EF60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CE9-99E3-4930-A050-52F146DF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CF66-61BA-40C1-8DB6-3570D1D3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A04D-F157-4568-BB2C-4C6214B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5BD-D633-405C-A792-E5234987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7625-BBF0-4D60-A3FF-101E027A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A399-B633-417B-BCA0-957E4CCA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C082-81A4-4DAC-802E-FD573DB5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7E75-37C2-44A9-82C2-5212EB73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2A5-13B4-408C-B61E-74B1B24C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A215-1308-46D1-A725-2ED7BD5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5CD1-4A8B-40B0-8EDA-7435CE38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BE20-AE77-4DB8-9115-638D8D8E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972E-F758-42EA-BD2B-97A903B8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AFBC-9E55-4C06-9EA2-C1469778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D8F-7075-41DF-8363-E1039BE6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4D7-A917-44B1-ACF4-873FAFD4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B44-10BF-4040-8975-1B0C5DDE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B1D-D042-4F07-91E0-B2475057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B50-A32E-4843-8407-DAC2BC56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E55-1554-407E-86DE-356A5C53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EF0-18FE-48F0-B2AD-3FF16B41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2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3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Oval 4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5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6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7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Oval 9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Oval 10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" name="Rectangle 12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3C90-AEEF-4870-B2E7-A9AA9781D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2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5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8" name="Group 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3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" name="Oval 20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7" name="Oval 22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8" name="Group 26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3"/>
              <p:cNvSpPr/>
              <p:nvPr/>
            </p:nvSpPr>
            <p:spPr>
              <a:xfrm>
                <a:off x="0" y="3800520"/>
                <a:ext cx="703440" cy="163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Freeform 24"/>
              <p:cNvSpPr/>
              <p:nvPr/>
            </p:nvSpPr>
            <p:spPr>
              <a:xfrm>
                <a:off x="601560" y="3693960"/>
                <a:ext cx="1308240" cy="190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" name="Freeform 25"/>
              <p:cNvSpPr/>
              <p:nvPr/>
            </p:nvSpPr>
            <p:spPr>
              <a:xfrm>
                <a:off x="841320" y="4498920"/>
                <a:ext cx="100080" cy="11592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E264-4FBD-4E93-B06C-2189EE071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ef05"/>
                </a:solidFill>
                <a:latin typeface="Verdana"/>
              </a:rPr>
              <a:t>Data quality of leukaemia</a:t>
            </a:r>
            <a:br>
              <a:rPr sz="3200"/>
            </a:br>
            <a:r>
              <a:rPr b="0" i="1" lang="en-GB" sz="2400" spc="-1" strike="noStrike">
                <a:solidFill>
                  <a:srgbClr val="efef05"/>
                </a:solidFill>
                <a:latin typeface="Verdana"/>
              </a:rPr>
              <a:t>experiences in the Netherland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Tekstvak 7"/>
          <p:cNvSpPr/>
          <p:nvPr/>
        </p:nvSpPr>
        <p:spPr>
          <a:xfrm>
            <a:off x="3143160" y="4071960"/>
            <a:ext cx="51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tto Viss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msterdam Cancer Regist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Unspecified leukaemia codes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Netherlands Cancer Registry, 2001-2007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0" name="Grafiek 3"/>
          <p:cNvGraphicFramePr/>
          <p:nvPr/>
        </p:nvGraphicFramePr>
        <p:xfrm>
          <a:off x="393840" y="1905120"/>
          <a:ext cx="8381880" cy="43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Grafiek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905120"/>
                    <a:ext cx="8381880" cy="43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Unspecified AML codes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Netherlands Cancer Registry, 2001-2007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Grafiek 3"/>
          <p:cNvGraphicFramePr/>
          <p:nvPr/>
        </p:nvGraphicFramePr>
        <p:xfrm>
          <a:off x="390600" y="1909800"/>
          <a:ext cx="849780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Grafiek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909800"/>
                    <a:ext cx="84978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0080" y="785520"/>
            <a:ext cx="7834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ef05"/>
                </a:solidFill>
                <a:latin typeface="Verdana"/>
              </a:rPr>
              <a:t>Myeloid neoplasm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5880" y="1643040"/>
          <a:ext cx="7772400" cy="4873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 Classification 4th edi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proliferative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L, typ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nic neutrophilic leukaem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nic eosinophilic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id and lymphoid neoplasms with eosinophe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dysplastic/myeloproliferative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L, atyp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M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dysplastic syndr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ute myeloid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y specific typ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ute leukaemias of ambiguous line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ute undifferentiated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phenotype acute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0080" y="857160"/>
            <a:ext cx="78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ef05"/>
                </a:solidFill>
                <a:latin typeface="Verdana"/>
              </a:rPr>
              <a:t>Lymphoid neoplasm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00000" y="1655640"/>
          <a:ext cx="7772400" cy="4726080"/>
        </p:xfrm>
        <a:graphic>
          <a:graphicData uri="http://schemas.openxmlformats.org/drawingml/2006/table">
            <a:tbl>
              <a:tblPr/>
              <a:tblGrid>
                <a:gridCol w="4464000"/>
                <a:gridCol w="3308400"/>
              </a:tblGrid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 Classification 4th ed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ursor lymphoid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 B-cell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P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y cell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urkitt leukaemi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 T-cell and NK-cell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-P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-LG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gressive NK-cell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ult T-cell leuka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dgkin lymph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iocytic and dendritic cell neopla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-transplant lymphoproliferative disor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0080" y="857160"/>
            <a:ext cx="78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ef05"/>
                </a:solidFill>
                <a:latin typeface="Verdana"/>
              </a:rPr>
              <a:t>Aspecific codes &amp; diagnose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1655640"/>
          <a:ext cx="7772400" cy="2960640"/>
        </p:xfrm>
        <a:graphic>
          <a:graphicData uri="http://schemas.openxmlformats.org/drawingml/2006/table">
            <a:tbl>
              <a:tblPr/>
              <a:tblGrid>
                <a:gridCol w="1440000"/>
                <a:gridCol w="63324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aab8e2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hronic)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ute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ymphoid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L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eloid leukaemia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b8e2"/>
                      </a:solidFill>
                    </a:lnL>
                    <a:lnR>
                      <a:noFill/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L, 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ab8e2"/>
                      </a:solidFill>
                    </a:lnR>
                    <a:lnT w="5760">
                      <a:solidFill>
                        <a:srgbClr val="aab8e2"/>
                      </a:solidFill>
                    </a:lnT>
                    <a:lnB w="5760">
                      <a:solidFill>
                        <a:srgbClr val="aab8e2"/>
                      </a:solidFill>
                    </a:lnB>
                    <a:solidFill>
                      <a:srgbClr val="f1f3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Chronic myeloid leukaem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785880" y="171468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des in ICD-O-3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ML, NOS M986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ypical CML, BCR-ABL positive M987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typical CML, BCR-ABL negative M987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317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esults of quality checks of CML, nos</a:t>
            </a:r>
            <a:br>
              <a:rPr sz="3200"/>
            </a:b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msterdam Cancer Registry, 2001-2007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Tekstvak 2"/>
          <p:cNvSpPr/>
          <p:nvPr/>
        </p:nvSpPr>
        <p:spPr>
          <a:xfrm>
            <a:off x="826920" y="1989000"/>
            <a:ext cx="792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 total 101 patients were checke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4 cases: other diagnosis (1 AML, 3 CMM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63 cases: typical C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5 cases: atypical C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9 cases: no further specification possible (no genetics available), 3 patients &lt; 75, 16 patients 75 or ol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Diagnosis of CML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msterdam Cancer Registry, 2001-2007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3" name="Grafiek 3"/>
          <p:cNvGraphicFramePr/>
          <p:nvPr/>
        </p:nvGraphicFramePr>
        <p:xfrm>
          <a:off x="395280" y="1916280"/>
          <a:ext cx="8582040" cy="43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Grafiek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582040" cy="43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Verdana"/>
              </a:rPr>
              <a:t>Survival CML: &lt;75 year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Afbeelding 4" descr="cml_75min.emf"/>
          <p:cNvPicPr/>
          <p:nvPr/>
        </p:nvPicPr>
        <p:blipFill>
          <a:blip r:embed="rId1"/>
          <a:stretch/>
        </p:blipFill>
        <p:spPr>
          <a:xfrm>
            <a:off x="1187280" y="1500120"/>
            <a:ext cx="6985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urvival CML: 75+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8" name="Afbeelding 4" descr="cml_75plus.emf"/>
          <p:cNvPicPr/>
          <p:nvPr/>
        </p:nvPicPr>
        <p:blipFill>
          <a:blip r:embed="rId1"/>
          <a:stretch/>
        </p:blipFill>
        <p:spPr>
          <a:xfrm>
            <a:off x="1000080" y="1500120"/>
            <a:ext cx="68580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12:02Z</dcterms:created>
  <dc:creator>Visser, Otto</dc:creator>
  <dc:description/>
  <dc:language>en-US</dc:language>
  <cp:lastModifiedBy>vissero</cp:lastModifiedBy>
  <cp:lastPrinted>2002-11-21T09:05:00Z</cp:lastPrinted>
  <dcterms:modified xsi:type="dcterms:W3CDTF">2009-03-23T14:53:24Z</dcterms:modified>
  <cp:revision>219</cp:revision>
  <dc:subject/>
  <dc:title>Verschillen in overleving tussen IKA en IKZ</dc:title>
</cp:coreProperties>
</file>