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FA19-E89E-4CB7-982E-8D61CFDAA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31A6-D622-4022-A7F0-E39EF4DA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B972-A897-4C4F-BA5C-475C1529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C115-3D8C-44A6-BCDC-2A399B668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56CE-4D63-4A7F-AA53-D712063A0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CA1C-D0A5-4A4A-9C22-8B18D795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47AA-52EC-41BB-9CD6-460ED903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D31B-E086-4D85-9F84-00D7D587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7786-53EF-44F5-B4F0-3FE53C07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EB75-5F86-4948-AF20-93FBC1CF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CC19-7B7F-4474-903E-8E91D48D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41DB-5053-4469-AD1C-4A667066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3E0E-6883-4E72-9E02-7BD88546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5A84-FC07-4B93-8397-965933CC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272E-1A1F-405F-9DF2-0CA01833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3B93-4466-42C5-9A79-32790E20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0221-D2A5-47EE-A44F-5FF243FF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F4CA-0CA3-4BBE-9952-FDF717CE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8526-AD43-46F3-B5AE-105C4D71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77DE-D5C9-4A32-971A-36D93153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F178-1564-4A80-8747-31933468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A4CA-8E2C-4449-BF94-1F643788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59F9-32D9-4BA0-94D4-25C5E3F0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6799-7CFE-43CC-834D-9434FCF4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7862-0F72-4416-BD52-CD220CF9A2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9442-A9E8-4DA4-ABD7-9CE2EBC81EB8}" type="slidenum">
              <a:rPr b="0" lang="en-GB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1640" y="0"/>
            <a:ext cx="701028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336666"/>
                </a:solidFill>
                <a:latin typeface="Tahoma"/>
              </a:rPr>
              <a:t>Impact of corrections on RARECARE indicators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336666"/>
                </a:solidFill>
                <a:latin typeface="Tahoma"/>
              </a:rPr>
              <a:t>Preliminary analysis</a:t>
            </a:r>
            <a:br>
              <a:rPr sz="3600"/>
            </a:br>
            <a:br>
              <a:rPr sz="3600"/>
            </a:br>
            <a:r>
              <a:rPr b="0" lang="it-IT" sz="3600" spc="-1" strike="noStrike">
                <a:solidFill>
                  <a:srgbClr val="336666"/>
                </a:solidFill>
                <a:latin typeface="Tahoma"/>
              </a:rPr>
              <a:t>Riccardo Capocac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7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7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2248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vision by cohort of inc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63272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7280" y="189000"/>
            <a:ext cx="7239240" cy="12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6666"/>
                </a:solidFill>
                <a:latin typeface="Tahoma"/>
              </a:rPr>
              <a:t>CNS cancers N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r" pos="638820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3861 cases of CNS NOS in participating regi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r" pos="638820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1503 sent for revision because surv 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r" pos="638820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564 rev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r" pos="638820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Main cha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r" pos="638820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46 astrocytomas adding to 8864 cases in the same regi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r" pos="638820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6 oligodendrogliomas (adding to 57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r" pos="638820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2 ependimomas (adding to 4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r" pos="638820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r" pos="638820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Negligible impact on incidence and surv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47640" y="228600"/>
            <a:ext cx="736776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portion of lost to FU and long-term relative survival: Colon &amp; Rec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0" y="1785960"/>
            <a:ext cx="9144000" cy="49053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2743200" y="2438280"/>
            <a:ext cx="16765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6699"/>
                </a:solidFill>
                <a:latin typeface="Symbol"/>
                <a:ea typeface="Symbol"/>
              </a:rPr>
              <a:t></a:t>
            </a:r>
            <a:r>
              <a:rPr b="1" lang="it-IT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666699"/>
                </a:solidFill>
                <a:latin typeface="Times New Roman"/>
              </a:rPr>
              <a:t>= </a:t>
            </a:r>
            <a:r>
              <a:rPr b="0" lang="it-IT" sz="2800" spc="-1" strike="noStrike">
                <a:solidFill>
                  <a:srgbClr val="666699"/>
                </a:solidFill>
                <a:latin typeface="Times New Roman"/>
              </a:rPr>
              <a:t>0.127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6666"/>
                </a:solidFill>
                <a:latin typeface="Tahoma"/>
              </a:rPr>
              <a:t>Com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7720" indent="-477720">
              <a:lnSpc>
                <a:spcPct val="10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Quality control of site and morphology was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For many entities, indicators’ estimates are not dramatically affected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... with the exception of some rare cancers (GIST, CML subtypes)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... and mostly for the first years of ICDO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Follow-up revision is also important for many regi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6666"/>
                </a:solidFill>
                <a:latin typeface="Tahoma"/>
              </a:rPr>
              <a:t>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63320" indent="-46332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26,980 cases sent for revision to 36 regi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320" indent="-46332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everal registries, not included in the RARECARE database, subsequently jo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320" indent="-46332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everal registries revised only a subset of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320" indent="-46332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ncidence and observed survival indicators were estimated from the original and the revised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320" indent="-46332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Only registries included in the database, and which revised each specific cancer were consi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6666"/>
                </a:solidFill>
                <a:latin typeface="Tahoma"/>
              </a:rPr>
              <a:t>Mesothelio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7720" indent="-477720">
              <a:lnSpc>
                <a:spcPct val="100000"/>
              </a:lnSpc>
              <a:spcBef>
                <a:spcPts val="17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3658 pleural mesotheliomas in participating regi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7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507 cases revised because survival &gt; 2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7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24 cases removed: 5-yr survival = 54.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7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692 pleural cancers re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7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42 cases added : 5-yr survival = 0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7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Number of cases increased by + 3.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7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7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6666"/>
                </a:solidFill>
                <a:latin typeface="Tahoma"/>
              </a:rPr>
              <a:t>Mesothelio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ahoma"/>
              </a:rPr>
              <a:t>Number of incident mesotheliomas:</a:t>
            </a:r>
            <a:r>
              <a:rPr b="0" lang="it-IT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2100" spc="-1" strike="noStrike">
                <a:solidFill>
                  <a:srgbClr val="000000"/>
                </a:solidFill>
                <a:latin typeface="Tahoma"/>
              </a:rPr>
              <a:t>365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ahoma"/>
              </a:rPr>
              <a:t>Incidence in participating registries: </a:t>
            </a:r>
            <a:r>
              <a:rPr b="0" lang="it-IT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2100" spc="-1" strike="noStrike">
                <a:solidFill>
                  <a:srgbClr val="000000"/>
                </a:solidFill>
                <a:latin typeface="Tahoma"/>
              </a:rPr>
              <a:t>1.3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ahoma"/>
              </a:rPr>
              <a:t>5-yr survival in participating registries: </a:t>
            </a:r>
            <a:r>
              <a:rPr b="0" lang="it-IT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2100" spc="-1" strike="noStrike">
                <a:solidFill>
                  <a:srgbClr val="000000"/>
                </a:solidFill>
                <a:latin typeface="Tahoma"/>
              </a:rPr>
              <a:t>6.3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ff0000"/>
                </a:solidFill>
                <a:latin typeface="Tahoma"/>
              </a:rPr>
              <a:t>Hypothesis (A): all misclassified cases are in the subset of 507 cases revis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ahoma"/>
              </a:rPr>
              <a:t>Incidence</a:t>
            </a:r>
            <a:r>
              <a:rPr b="0" lang="it-IT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2100" spc="-1" strike="noStrike">
                <a:solidFill>
                  <a:srgbClr val="000000"/>
                </a:solidFill>
                <a:latin typeface="Tahoma"/>
              </a:rPr>
              <a:t>1.3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ahoma"/>
              </a:rPr>
              <a:t>5-yr survival</a:t>
            </a:r>
            <a:r>
              <a:rPr b="0" lang="it-IT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2100" spc="-1" strike="noStrike">
                <a:solidFill>
                  <a:srgbClr val="000000"/>
                </a:solidFill>
                <a:latin typeface="Tahoma"/>
              </a:rPr>
              <a:t>5.9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ff0000"/>
                </a:solidFill>
                <a:latin typeface="Tahoma"/>
              </a:rPr>
              <a:t>Hypothesis (B): the proportion of misclassification among all cases is the same of that in the revised subs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ahoma"/>
              </a:rPr>
              <a:t>Incidence</a:t>
            </a:r>
            <a:r>
              <a:rPr b="0" lang="it-IT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2100" spc="-1" strike="noStrike">
                <a:solidFill>
                  <a:srgbClr val="000000"/>
                </a:solidFill>
                <a:latin typeface="Tahoma"/>
              </a:rPr>
              <a:t>1.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ahoma"/>
              </a:rPr>
              <a:t>5-yr survival</a:t>
            </a:r>
            <a:r>
              <a:rPr b="0" lang="it-IT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2100" spc="-1" strike="noStrike">
                <a:solidFill>
                  <a:srgbClr val="000000"/>
                </a:solidFill>
                <a:latin typeface="Tahoma"/>
              </a:rPr>
              <a:t>3.6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6666"/>
                </a:solidFill>
                <a:latin typeface="Tahoma"/>
              </a:rPr>
              <a:t>Liver angiosarco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7720" indent="-477720">
              <a:lnSpc>
                <a:spcPct val="100000"/>
              </a:lnSpc>
              <a:spcBef>
                <a:spcPts val="17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82 cases of liver angiosarcoma sent for re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7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ll diagnoses confi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7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13 with survival &gt; 1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7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urvival information corrected in 9 cas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7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ncluding all the 8 Austrian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7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urvival in Austria changed: from 27% to 2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7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7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520" y="190080"/>
            <a:ext cx="7239240" cy="12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6666"/>
                </a:solidFill>
                <a:latin typeface="Tahoma"/>
              </a:rPr>
              <a:t>Sarcoma NOS and G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638820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366 cases of GIST in participating regi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638820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r" pos="638820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cidence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0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r" pos="638820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5-yr survival: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61.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r" pos="638820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r" pos="638820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638820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2980 cases of Sarcoma NOS sent for re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638820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108 new GIST cases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638820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r" pos="638820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rrected incidence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0.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r" pos="638820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rrected 5-yr survival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74.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r" pos="638820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2248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vision by cohort of inc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755640" y="1768320"/>
            <a:ext cx="77040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6666"/>
                </a:solidFill>
                <a:latin typeface="Tahoma"/>
              </a:rPr>
              <a:t>Chronic Myeloid Leukaemia 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 total of 2627 CML NOS cases rev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200 cases corrected to CML BCRABL +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46 cases already present in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same entity as CML 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26   cases corrected to CML BCRABL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4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6666"/>
                </a:solidFill>
                <a:latin typeface="Tahoma"/>
              </a:rPr>
              <a:t>Atypical chronic myeloid leukemia BCRABL neg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r" pos="647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6 cases in participating regi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r" pos="647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20 cases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r" pos="647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3-year survival: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66.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r" pos="647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orrected 3-yr survival: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32.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13:28:10Z</dcterms:created>
  <dc:creator>Istituto Nazionale Tumori</dc:creator>
  <dc:description/>
  <dc:language>en-US</dc:language>
  <cp:lastModifiedBy>HERON Graeme</cp:lastModifiedBy>
  <dcterms:modified xsi:type="dcterms:W3CDTF">2010-06-16T14:42:19Z</dcterms:modified>
  <cp:revision>18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