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0DF-8AA5-4363-8115-92B49F3A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25A-D7C9-4C96-B5B2-F9F823E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78A-EB7E-490E-9202-A655EA02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618-4614-400F-9CFB-04E9D01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F13-4662-4E12-BF44-95F582D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71AC-7297-4A63-BBBC-A848C33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D19-AD8A-452A-9C10-F2338C97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A098-D25D-4FB6-BF22-0365330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17BD-1FEE-4D2E-B972-5B397AB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003C-00CA-4EF3-A7F4-D394BEED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0073-0071-47EA-B7D7-8DF393C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B21-D684-4C1F-86CD-D7DA39E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F12-720A-4D89-B85F-349203E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14F-A3BE-473E-84BB-AA640C7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26B-6E01-4EDA-AF45-CE915FF0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D40F-73B7-49DF-90C4-6FDDBEE2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9395-5553-427B-A172-615B491F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1FF-FA42-4E1C-B8EB-53E7A37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BDF-F0BB-40EC-AF5E-F962D6A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AEE-1215-4734-98D8-5914D94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4B6-3A3F-423B-91FB-2D234F31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9F7-684C-4C39-B412-E1B211C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75-58AB-4D15-8183-E9311AC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C41-290B-4A72-86D5-30839AC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445D-A41B-4E2E-99A0-68CA203A0D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2554-4F03-4E3B-AD27-D1B662237F42}" type="slidenum">
              <a:rPr b="0" lang="en-GB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0102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336666"/>
                </a:solidFill>
                <a:latin typeface="Tahoma"/>
              </a:rPr>
              <a:t>Impact of corrections on RARECARE indicator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336666"/>
                </a:solidFill>
                <a:latin typeface="Tahoma"/>
              </a:rPr>
              <a:t>Preliminary analysis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Riccardo Capocac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24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vision by cohort of inc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6327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2392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NS cancers 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861 cases of CNS NOS in participating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503 sent for revision because surv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64 re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ai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6 astrocytomas adding to 8864 cases in the same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6 oligodendrogliomas (adding to 5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 ependimomas (adding to 4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egligible impact on incidence and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228600"/>
            <a:ext cx="736776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rtion of lost to FU and long-term relative survival: Colon &amp; 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905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743200" y="2438280"/>
            <a:ext cx="1676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99"/>
                </a:solidFill>
                <a:latin typeface="Symbol"/>
                <a:ea typeface="Symbol"/>
              </a:rPr>
              <a:t></a:t>
            </a:r>
            <a:r>
              <a:rPr b="1" lang="it-IT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66699"/>
                </a:solidFill>
                <a:latin typeface="Times New Roman"/>
              </a:rPr>
              <a:t>= </a:t>
            </a:r>
            <a:r>
              <a:rPr b="0" lang="it-IT" sz="2800" spc="-1" strike="noStrike">
                <a:solidFill>
                  <a:srgbClr val="666699"/>
                </a:solidFill>
                <a:latin typeface="Times New Roman"/>
              </a:rPr>
              <a:t>0.127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lity control of site and morphology was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r many entities, indicators’ estimates are not dramatically affect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.. with the exception of some rare cancers (GIST, CML subtypes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.. and mostly for the first years of ICDO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llow-up revision is also important for many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26,980 cases sent for revision to 36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veral registries, not included in the RARECARE database, subsequently jo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veral registries revised only a subset of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cidence and observed survival indicators were estimated from the original and the revised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nly registries included in the database, and which revised each specific cancer wer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Mesotheli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658 pleural mesotheliomas in participating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507 cases revised because survival &gt; 2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24 cases removed: 5-yr survival = 54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692 pleural cancers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42 cases added : 5-yr survival = 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umber of cases increased by + 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Mesotheli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Number of incident mesotheliomas: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36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 in participating registries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 in participating registries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6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0000"/>
                </a:solidFill>
                <a:latin typeface="Tahoma"/>
              </a:rPr>
              <a:t>Hypothesis (A): all misclassified cases are in the subset of 507 cases revi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3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5.9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0000"/>
                </a:solidFill>
                <a:latin typeface="Tahoma"/>
              </a:rPr>
              <a:t>Hypothesis (B): the proportion of misclassification among all cases is the same of that in the revised subs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Incidence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1.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5-yr survival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100" spc="-1" strike="noStrike">
                <a:solidFill>
                  <a:srgbClr val="000000"/>
                </a:solidFill>
                <a:latin typeface="Tahoma"/>
              </a:rPr>
              <a:t>3.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Liver angiosarc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82 cases of liver angiosarcoma sent for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diagnoses 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13 with survival &gt; 1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rvival information corrected in 9 c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cluding all the 8 Austrian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7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rvival in Austria changed: from 27% to 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7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080"/>
            <a:ext cx="723924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Sarcoma NOS and G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66 cases of GIST in participating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cidence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-yr survival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61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980 cases of Sarcoma NOS sent f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8 new GIST case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rrected incidence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rrected 5-yr survival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7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638820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24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vision by cohort of inc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55640" y="1768320"/>
            <a:ext cx="7704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Chronic Myeloid Leukaemia 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total of 2627 CML NOS cases re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00 cases corrected to CML BCRABL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46 cases already present in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ame entity as CML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6   cases corrected to CML BCRAB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6666"/>
                </a:solidFill>
                <a:latin typeface="Tahoma"/>
              </a:rPr>
              <a:t>Atypical chronic myeloid leukemia BCRABL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6 cases in participating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0 case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-year survival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66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r" pos="647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rrected 3-yr survival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2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2:19Z</dcterms:modified>
  <cp:revision>18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