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825D-DD4B-4654-9503-73056649DA5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234E-E586-4709-B8CB-5E8E12ABAE6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4465-45F0-4F06-9261-8F2AA7DBE8C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9171-F720-4642-B31D-F832CA2F683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A3E4-D180-4EAD-977A-DEF0E3CB127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3828-1AE5-4F8B-AECA-1BCA3D06B75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88E9-1ED6-45F9-9F14-E78B5592CF9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2673-7EBA-453C-8F16-6E9271DB1CA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191E-4E15-427D-908C-A01229EA077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94C5-C3C0-41F7-9535-E9E6FF54FED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C505-8920-4EFC-B019-28C7D0706AD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D825-4AA6-40A5-88DB-56B57C04E48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052C-C74B-461E-B1BD-C0A2FD4BABD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9EAA-4063-441E-8186-C6E45285B87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2841-63F4-476D-B05E-7338180B876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822C-30E5-4EBE-9D79-2E3BC238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396-A1AD-495C-B526-EDC78044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147-069B-46E2-A19F-EE667804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E167-946D-4268-9E77-C9AB6CEA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D16F-F6E0-406C-9779-3016C7A2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6A1D-7DA6-48E7-9BED-E56D48FA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DE64-10E0-41B2-B3F5-1D082D23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38E2-CE74-4F11-A8C9-93853C4C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3D16-B53F-4EB5-A4CC-29263183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EFAE-8F07-4588-9142-1A3D451A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1A8D-E881-4D41-9E89-2CDD5846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7226-6BBC-4E59-A522-B6D08F58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01E1-3993-4D9E-AAF7-82D90ECD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998F-A032-4B49-A7E5-8657DA16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CAB3-E20C-4F0F-AB2E-5483EE0C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EDD1-1216-4F17-B717-8043ABF2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9705-063E-4CC7-B848-F8B0EE15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F1C-950B-43B3-906E-0C2C97D2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15B7-1477-4A01-995D-9CF71D5D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986E-6D54-4888-8EE4-4AA2413E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8335-68F2-47EF-9A3A-B85E0668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7BBF-D6FA-4167-9935-480A48D6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992-176C-464B-A263-38F34A50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CD67-347B-4AE8-AA4D-95D9FDAC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BC0F-9514-4C4A-B80B-DC663E7D10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32DE-7B4D-42FF-9B58-F6A111B510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RARECARE paper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1179360" y="2542320"/>
            <a:ext cx="7385040" cy="29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Verdana"/>
              </a:rPr>
              <a:t>RARECARE  pro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cer registries and rare cancer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of data, supplementary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RECARE WP6,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National Institute of Public Health -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Warsaw 2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March 20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RARECARE paper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1619280" y="3242160"/>
            <a:ext cx="7129440" cy="244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aper with first results of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 project (Lance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onograph on rare cancers (BJ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ntributions to congresses (AIRTum, GRELL, ECRD, WEON, ANCR, etc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224440" y="1887480"/>
            <a:ext cx="51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Verdana"/>
              </a:rPr>
              <a:t>Dissemination of th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0106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Monograph on rare cancers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describe the burden of rare cancers in Europe and to offer an interpretation of the resul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wo paper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for each rare can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ults and comments provided b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epidemiologis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mentary from one or more leading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linical commen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sight into changes in the diagnosis and treatm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sons for the differences between European regio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RARECARE paper"/>
          <p:cNvPicPr/>
          <p:nvPr/>
        </p:nvPicPr>
        <p:blipFill>
          <a:blip r:embed="rId1"/>
          <a:stretch/>
        </p:blipFill>
        <p:spPr>
          <a:xfrm>
            <a:off x="7364520" y="115920"/>
            <a:ext cx="177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assure the continu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RARECARE projec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13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perating gr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Last week we sent a proposal for a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Verdana"/>
              </a:rPr>
              <a:t>operating grant</a:t>
            </a: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 with the OECI (1 yea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6666"/>
                </a:solidFill>
                <a:latin typeface="Verdana"/>
              </a:rPr>
              <a:t>Aim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lnSpc>
                <a:spcPct val="11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Dissem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lnSpc>
                <a:spcPct val="11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6666"/>
                </a:solidFill>
                <a:latin typeface="Verdana"/>
              </a:rPr>
              <a:t>Train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lnSpc>
                <a:spcPct val="11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6666"/>
                </a:solidFill>
                <a:latin typeface="Verdana"/>
              </a:rPr>
              <a:t>RARECARE meeting for a second projec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Health Programme: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2010 Cal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Picture 4" descr="RARECARE paper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Data quality in rare cancers? Why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rare tumour entities are a combination of ICD-O topography and morphology code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opography is detailed to the 4th digit (sub-site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morphology codes refer to a rare morphology, with well known problems in diagnostic accurac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he changes of the ICD-O classific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66"/>
                </a:solidFill>
                <a:latin typeface="Arial"/>
              </a:rPr>
              <a:t>Data quality issu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442520" y="3068280"/>
            <a:ext cx="7239240" cy="21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Quality of diagno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Completeness of incid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Quality of follow-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ata qual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442520" y="2492280"/>
            <a:ext cx="72392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° meeting in Milano 2008, plan of the activ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° meeting in Granada 2009, plan of the data quality stu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 invited all the RARECARE registries to participate at this phase of the projec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veloped a protoco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gistries checked their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eliminary analysis of the data check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armen Martinez and her staff analysed the standard quality indicators for the high priority rare tumo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andra Deady analysed the EUROCARE-4 low resolution data on rare canc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66"/>
                </a:solidFill>
                <a:latin typeface="Arial"/>
              </a:rPr>
              <a:t>Short list</a:t>
            </a:r>
            <a:endParaRPr b="0" lang="en-US" sz="5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71280" y="1905120"/>
            <a:ext cx="69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sotheliom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iver angiosarco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rcom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umors of oral ca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NC tumo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Germ cell tumo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ukem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docrine tumo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5364000" y="1916280"/>
            <a:ext cx="216000" cy="86328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651640" y="1989000"/>
            <a:ext cx="288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imary prev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724360" y="3500280"/>
            <a:ext cx="863640" cy="216000"/>
          </a:xfrm>
          <a:prstGeom prst="rightArrow">
            <a:avLst>
              <a:gd name="adj1" fmla="val 50000"/>
              <a:gd name="adj2" fmla="val 9995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5724360" y="2924280"/>
            <a:ext cx="863640" cy="217440"/>
          </a:xfrm>
          <a:prstGeom prst="rightArrow">
            <a:avLst>
              <a:gd name="adj1" fmla="val 50000"/>
              <a:gd name="adj2" fmla="val 99296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5435640" y="4006800"/>
            <a:ext cx="287280" cy="1150920"/>
          </a:xfrm>
          <a:custGeom>
            <a:avLst/>
            <a:gdLst>
              <a:gd name="textAreaLeft" fmla="*/ 0 w 287280"/>
              <a:gd name="textAreaRight" fmla="*/ 103680 w 28728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5291280" y="5495760"/>
            <a:ext cx="1081080" cy="216000"/>
          </a:xfrm>
          <a:prstGeom prst="rightArrow">
            <a:avLst>
              <a:gd name="adj1" fmla="val 50000"/>
              <a:gd name="adj2" fmla="val 12512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6083280" y="2708280"/>
            <a:ext cx="30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nosti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6299280" y="3502080"/>
            <a:ext cx="230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ondar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5580000" y="4221000"/>
            <a:ext cx="2735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of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5940360" y="5229360"/>
            <a:ext cx="30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qu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14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66"/>
                </a:solidFill>
                <a:latin typeface="Arial"/>
              </a:rPr>
              <a:t>Data check, registri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442520" y="2781360"/>
            <a:ext cx="72392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4" descr="RARECARE paper"/>
          <p:cNvPicPr/>
          <p:nvPr/>
        </p:nvPicPr>
        <p:blipFill>
          <a:blip r:embed="rId1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1332000" y="2349360"/>
            <a:ext cx="7272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33cccc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44 registrie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ccepted to particip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buClr>
                <a:srgbClr val="33cccc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≈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50% of the RARECARE registries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buClr>
                <a:srgbClr val="33cccc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68% of the registries included i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analysis of the indic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RARECARE paper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1179360" y="3426840"/>
            <a:ext cx="73850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RECARE progress update 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jectives of the mee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52800" y="985320"/>
            <a:ext cx="5960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6666"/>
                </a:solidFill>
                <a:latin typeface="Arial"/>
              </a:rPr>
              <a:t>AIMS </a:t>
            </a: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of the meetin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476360" y="2997360"/>
            <a:ext cx="72057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discuss the preliminary results of data quality che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plan for further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disseminate the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define possible recommendations for rare cancer reg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discuss for a seminar on rare can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RARECARE paper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News from the European commiss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442520" y="2708280"/>
            <a:ext cx="72392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End of the project 1</a:t>
            </a:r>
            <a:r>
              <a:rPr b="0" lang="en-GB" sz="2900" spc="-1" strike="noStrike" baseline="30000">
                <a:solidFill>
                  <a:srgbClr val="000000"/>
                </a:solidFill>
                <a:latin typeface="Verdana"/>
              </a:rPr>
              <a:t>st 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Apri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Postpone the end of the project to June 201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Accepted for the WP6 (data quality) on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66"/>
                </a:solidFill>
                <a:latin typeface="Arial"/>
              </a:rPr>
              <a:t>End of the presenta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cc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4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66"/>
                </a:solidFill>
                <a:latin typeface="Arial"/>
              </a:rPr>
              <a:t>Thank you for coming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cc"/>
                </a:solidFill>
                <a:latin typeface="Verdana"/>
              </a:rPr>
              <a:t>…</a:t>
            </a:r>
            <a:r>
              <a:rPr b="1" lang="en-GB" sz="3200" spc="-1" strike="noStrike">
                <a:solidFill>
                  <a:srgbClr val="33cccc"/>
                </a:solidFill>
                <a:latin typeface="Verdana"/>
              </a:rPr>
              <a:t>and enjoy the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6" descr="RARECARE paper"/>
          <p:cNvPicPr/>
          <p:nvPr/>
        </p:nvPicPr>
        <p:blipFill>
          <a:blip r:embed="rId1"/>
          <a:stretch/>
        </p:blipFill>
        <p:spPr>
          <a:xfrm>
            <a:off x="6659640" y="189000"/>
            <a:ext cx="2212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o provide 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definition of “rare cancers”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nd a list of cance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o estimate the burden of rare cancers in Euro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990000"/>
                </a:solidFill>
                <a:latin typeface="Verdana"/>
              </a:rPr>
              <a:t>To improve the quality of data</a:t>
            </a:r>
            <a:r>
              <a:rPr b="1" lang="it-IT" sz="1700" spc="-1" strike="noStrike">
                <a:solidFill>
                  <a:srgbClr val="990000"/>
                </a:solidFill>
                <a:latin typeface="Verdana"/>
              </a:rPr>
              <a:t> in </a:t>
            </a:r>
            <a:r>
              <a:rPr b="1" lang="en-GB" sz="1700" spc="-1" strike="noStrike">
                <a:solidFill>
                  <a:srgbClr val="990000"/>
                </a:solidFill>
                <a:latin typeface="Verdana"/>
              </a:rPr>
              <a:t>cancer</a:t>
            </a:r>
            <a:r>
              <a:rPr b="1" lang="it-IT" sz="17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GB" sz="1700" spc="-1" strike="noStrike">
                <a:solidFill>
                  <a:srgbClr val="990000"/>
                </a:solidFill>
                <a:latin typeface="Verdana"/>
              </a:rPr>
              <a:t>regist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o develop strategies for the diffusion of information among all the key playe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o provide figures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 on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incidence, survival, prevalence and mortality for all rare cance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990000"/>
                </a:solidFill>
                <a:latin typeface="Verdana"/>
              </a:rPr>
              <a:t>Data quality will be analysed for a subset of cancers</a:t>
            </a: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 web-site on rare cancers will be designed to disseminate resul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Duration: 3 yea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urveillance of rare 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ancer in Europ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Picture 7" descr="RARECARE paper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442520" y="2492280"/>
            <a:ext cx="7239240" cy="26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6666"/>
                </a:solidFill>
                <a:latin typeface="Verdana"/>
              </a:rPr>
              <a:t>What we have done until no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4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826920" y="1628640"/>
          <a:ext cx="7739280" cy="4859640"/>
        </p:xfrm>
        <a:graphic>
          <a:graphicData uri="http://schemas.openxmlformats.org/drawingml/2006/table">
            <a:tbl>
              <a:tblPr/>
              <a:tblGrid>
                <a:gridCol w="1922760"/>
                <a:gridCol w="4686120"/>
                <a:gridCol w="11304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liverables and mileston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Coord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Management committee member list and date of the first mee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DATA QUAL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utes of the meeting with cancer registries available to work on quality analys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6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Dissemin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Description of the project for the we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1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Coordin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First interim report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1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Dissemin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Release of the web-site to the public</a:t>
                      </a: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1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12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Evalu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Steering Committee member list, 1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meeting, and minutes of the meeting, list of performance indicators</a:t>
                      </a: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1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° year of activiti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Picture 145" descr="RARECARE paper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48"/>
          <p:cNvSpPr/>
          <p:nvPr/>
        </p:nvSpPr>
        <p:spPr>
          <a:xfrm>
            <a:off x="54000" y="3141720"/>
            <a:ext cx="755640" cy="360360"/>
          </a:xfrm>
          <a:prstGeom prst="rightArrow">
            <a:avLst>
              <a:gd name="adj1" fmla="val 50000"/>
              <a:gd name="adj2" fmla="val 5242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826920" y="1628640"/>
          <a:ext cx="7739280" cy="5061240"/>
        </p:xfrm>
        <a:graphic>
          <a:graphicData uri="http://schemas.openxmlformats.org/drawingml/2006/table">
            <a:tbl>
              <a:tblPr/>
              <a:tblGrid>
                <a:gridCol w="1922760"/>
                <a:gridCol w="4686120"/>
                <a:gridCol w="11304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liverables and mileston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0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WP4 (Lis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 of rare canc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18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DATA QUAL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eting with cancer registries available to work on data qual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24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Dissemin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Publication p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24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Coordin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+ WP5 (indicator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Technical report of the basic/macro indicators of rare cancers and second interim repo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24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WP4 (Li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Short list of rare cancer with high priority  </a:t>
                      </a: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24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12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Evalu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Steering Committee member list, 1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meeting, and minutes of the meeting, list of performance indicators</a:t>
                      </a: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12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2°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ear of activiti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39" descr="RARECARE paper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1"/>
          <p:cNvSpPr/>
          <p:nvPr/>
        </p:nvSpPr>
        <p:spPr>
          <a:xfrm>
            <a:off x="0" y="3068640"/>
            <a:ext cx="755640" cy="360360"/>
          </a:xfrm>
          <a:prstGeom prst="rightArrow">
            <a:avLst>
              <a:gd name="adj1" fmla="val 50000"/>
              <a:gd name="adj2" fmla="val 5242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52"/>
          <p:cNvSpPr/>
          <p:nvPr/>
        </p:nvSpPr>
        <p:spPr>
          <a:xfrm>
            <a:off x="0" y="2276640"/>
            <a:ext cx="755640" cy="360360"/>
          </a:xfrm>
          <a:prstGeom prst="rightArrow">
            <a:avLst>
              <a:gd name="adj1" fmla="val 50000"/>
              <a:gd name="adj2" fmla="val 5242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84360" y="1628640"/>
          <a:ext cx="7881840" cy="3843360"/>
        </p:xfrm>
        <a:graphic>
          <a:graphicData uri="http://schemas.openxmlformats.org/drawingml/2006/table">
            <a:tbl>
              <a:tblPr/>
              <a:tblGrid>
                <a:gridCol w="2065320"/>
                <a:gridCol w="4686120"/>
                <a:gridCol w="113040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liverables and mileston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List of scientific meetings for the dissemination of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30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DATA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ort on data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30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DATA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ion of the first seminar on classification and coding problems addressed to CRs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36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  <a:ea typeface="Times New Roman"/>
                        </a:rPr>
                        <a:t>Coord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Final repo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666633"/>
                          </a:solidFill>
                          <a:latin typeface="Verdana"/>
                        </a:rPr>
                        <a:t>36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° year of activiti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39" descr="RARECARE paper"/>
          <p:cNvPicPr/>
          <p:nvPr/>
        </p:nvPicPr>
        <p:blipFill>
          <a:blip r:embed="rId1"/>
          <a:stretch/>
        </p:blipFill>
        <p:spPr>
          <a:xfrm>
            <a:off x="5796000" y="333360"/>
            <a:ext cx="3076560" cy="105408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3"/>
          <p:cNvSpPr/>
          <p:nvPr/>
        </p:nvSpPr>
        <p:spPr>
          <a:xfrm>
            <a:off x="0" y="3068640"/>
            <a:ext cx="755640" cy="360360"/>
          </a:xfrm>
          <a:prstGeom prst="rightArrow">
            <a:avLst>
              <a:gd name="adj1" fmla="val 50000"/>
              <a:gd name="adj2" fmla="val 5242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54"/>
          <p:cNvSpPr/>
          <p:nvPr/>
        </p:nvSpPr>
        <p:spPr>
          <a:xfrm>
            <a:off x="0" y="3860640"/>
            <a:ext cx="755640" cy="360360"/>
          </a:xfrm>
          <a:prstGeom prst="rightArrow">
            <a:avLst>
              <a:gd name="adj1" fmla="val 50000"/>
              <a:gd name="adj2" fmla="val 5242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Arial"/>
              </a:rPr>
              <a:t>One of the major deliverab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476360" y="2997360"/>
            <a:ext cx="71294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Technical report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with basic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or rare cancers and health care relate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macro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5" descr="RARECARE paper"/>
          <p:cNvPicPr/>
          <p:nvPr/>
        </p:nvPicPr>
        <p:blipFill>
          <a:blip r:embed="rId1"/>
          <a:stretch/>
        </p:blipFill>
        <p:spPr>
          <a:xfrm>
            <a:off x="6443640" y="44280"/>
            <a:ext cx="242892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cc"/>
                </a:solidFill>
                <a:latin typeface="Arial"/>
              </a:rPr>
              <a:t>RARECARE second year project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SULTS, indicator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42520" y="270828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id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rvival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val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rt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croindicators: GDP and TNE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230 rare ent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RARECARE paper"/>
          <p:cNvPicPr/>
          <p:nvPr/>
        </p:nvPicPr>
        <p:blipFill>
          <a:blip r:embed="rId1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RARECARE paper"/>
          <p:cNvPicPr/>
          <p:nvPr/>
        </p:nvPicPr>
        <p:blipFill>
          <a:blip r:embed="rId2"/>
          <a:stretch/>
        </p:blipFill>
        <p:spPr>
          <a:xfrm>
            <a:off x="6012000" y="189000"/>
            <a:ext cx="2860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3:28:10Z</dcterms:created>
  <dc:creator>Istituto Nazionale Tumori</dc:creator>
  <dc:description/>
  <dc:language>en-US</dc:language>
  <cp:lastModifiedBy>HERON Graeme</cp:lastModifiedBy>
  <dcterms:modified xsi:type="dcterms:W3CDTF">2010-06-16T14:44:15Z</dcterms:modified>
  <cp:revision>11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