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1FCF-983E-4304-91B9-FADC5FCF2D6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F227-8802-4DBD-B25E-EA7CA42FBD9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59D0-E6EC-423D-A830-18C2D29586A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F62A-C5E1-4AE5-B3AA-C8708DEF28F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F783-EB30-4A93-BF4C-16D83DC66A0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E862-9981-49B4-94C2-E9442D01EC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1799-02B8-456F-898A-ABDC2CF06C8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AEC1-060F-41E5-845B-8AE08CFF3FB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C5F9-4571-4ED7-B80C-196152EA4E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7BEC-601A-446C-B6E8-D0D1B3FDC07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18DC-D95C-4D1B-B621-348B541C5C4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43B9-C682-411D-9BCB-E1EACB3D41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F1A7-89A5-4855-9425-BD615C6AA5A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CEBA-B530-4F5D-B8FF-E859C90F931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2093-03AF-4E1D-9C1D-9F20D145BB6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281-72EE-4E69-829F-3BF3D9C8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52E-0050-4596-8A0C-F0D23CBB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AE2-3826-4A59-B338-246A6D97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E4C-B8D1-4655-98E0-2C4069E3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9780-8E8A-4E54-9818-D6D91F3F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A0C5-AEB0-4E73-A8DF-3EBC1065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C57E-CA44-4FF9-A70D-5B26EEDB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6EA5-3586-4021-A90C-65B4A851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6692-4A2A-4D96-9BC8-6EE466E7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EC7A-3DFC-4F3F-A830-FCCF7BB0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D947-B10D-4B4D-A3FD-8733CE67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E52-2A62-4DD6-B054-2FD405B0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D250-6DF8-401D-B6BD-D720DFDE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4B0E-DD03-4F02-B6E0-5B47FB4B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C7AE-1AD9-4547-BB8C-F4B583A6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B9FC-8FC6-4245-8FDA-7CDDECBB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CF62-5468-49C4-9694-78C8A9F4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C2A-9B61-4C9F-B444-513F5605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174-AD5F-4EAC-867B-036657EF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7FE-51D6-4BFF-9356-71B697D8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7EE-395A-4DFA-8958-7ED0DCDA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198-D1C4-4CDB-B60C-058FF73E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40D-7A89-4B92-AEC7-14A30F3A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353-CF7A-4329-91B3-CB73F832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6C0C-E413-467A-9F37-9989BA5246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211D-8933-4AD7-B436-5D7F073071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179360" y="2542320"/>
            <a:ext cx="7385040" cy="29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Verdana"/>
              </a:rPr>
              <a:t>RARECARE 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cer registries and rare cancer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of data, supplementary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RECARE WP6,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National Institute of Public Health -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Warsaw 2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March 20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1619280" y="3242160"/>
            <a:ext cx="7129440" cy="244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aper with first results of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 project (Lance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onograph on rare cancers (BJ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ntributions to congresses (AIRTum, GRELL, ECRD, WEON, ANCR, etc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224440" y="1887480"/>
            <a:ext cx="51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Verdana"/>
              </a:rPr>
              <a:t>Dissemination of th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Monograph on rare cancers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describe the burden of rare cancers in Europe and to offer an interpretation of the resul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o paper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for each rare can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s and comments provided b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epidemiologis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entary from one or more leading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linical commen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ight into changes in the diagnosis and treat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sons for the differences between European reg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RARECARE paper"/>
          <p:cNvPicPr/>
          <p:nvPr/>
        </p:nvPicPr>
        <p:blipFill>
          <a:blip r:embed="rId1"/>
          <a:stretch/>
        </p:blipFill>
        <p:spPr>
          <a:xfrm>
            <a:off x="7364520" y="115920"/>
            <a:ext cx="177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assure the continu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RARECARE proje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13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erating gr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Last week we sent a proposal for a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Verdana"/>
              </a:rPr>
              <a:t>operating grant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with the OECI (1 ye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6666"/>
                </a:solidFill>
                <a:latin typeface="Verdana"/>
              </a:rPr>
              <a:t>Aim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lnSpc>
                <a:spcPct val="11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Dissem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lnSpc>
                <a:spcPct val="11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6666"/>
                </a:solidFill>
                <a:latin typeface="Verdana"/>
              </a:rPr>
              <a:t>Train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lnSpc>
                <a:spcPct val="11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6666"/>
                </a:solidFill>
                <a:latin typeface="Verdana"/>
              </a:rPr>
              <a:t>RARECARE meeting for a second pro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Health Programme: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2010 Cal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Picture 4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Data quality in rare cancers? Why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rare tumour entities are a combination of ICD-O topography and morphology code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opography is detailed to the 4th digit (sub-site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morphology codes refer to a rare morphology, with well known problems in diagnostic accurac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 changes of the ICD-O classific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Data quality issu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442520" y="3068280"/>
            <a:ext cx="723924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Quality of diagno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mpleteness of incid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Quality of follow-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ata qual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442520" y="2492280"/>
            <a:ext cx="72392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° meeting in Milano 2008, plan of the activ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° meeting in Granada 2009, plan of the data quality stu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 invited all the RARECARE registries to participate at this phase of the projec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veloped a protoco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gistries checked their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liminary analysis of the data chec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rmen Martinez and her staff analysed the standard quality indicators for the high priority rare tumo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andra Deady analysed the EUROCARE-4 low resolution data on rare canc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Short list</a:t>
            </a:r>
            <a:endParaRPr b="0" lang="en-US" sz="5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280" y="1905120"/>
            <a:ext cx="69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sotheliom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ver angiosarco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rco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umors of oral ca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NC tum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Germ cell tum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ukem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docrine tum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5364000" y="1916280"/>
            <a:ext cx="216000" cy="86328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mary pre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724360" y="3500280"/>
            <a:ext cx="863640" cy="216000"/>
          </a:xfrm>
          <a:prstGeom prst="rightArrow">
            <a:avLst>
              <a:gd name="adj1" fmla="val 50000"/>
              <a:gd name="adj2" fmla="val 9995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724360" y="2924280"/>
            <a:ext cx="863640" cy="217440"/>
          </a:xfrm>
          <a:prstGeom prst="rightArrow">
            <a:avLst>
              <a:gd name="adj1" fmla="val 50000"/>
              <a:gd name="adj2" fmla="val 99296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435640" y="4006800"/>
            <a:ext cx="287280" cy="115092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5291280" y="5495760"/>
            <a:ext cx="1081080" cy="216000"/>
          </a:xfrm>
          <a:prstGeom prst="rightArrow">
            <a:avLst>
              <a:gd name="adj1" fmla="val 50000"/>
              <a:gd name="adj2" fmla="val 1251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nosti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6299280" y="3502080"/>
            <a:ext cx="230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ondar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5580000" y="4221000"/>
            <a:ext cx="2735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of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5940360" y="522936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qu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1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Data check, registri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42520" y="2781360"/>
            <a:ext cx="72392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RARECARE paper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332000" y="2349360"/>
            <a:ext cx="7272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33cccc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44 registrie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ccepted to particip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buClr>
                <a:srgbClr val="33cccc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≈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50% of the RARECARE registries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buClr>
                <a:srgbClr val="33cccc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68% of the registries included 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analysis of the indic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1179360" y="3426840"/>
            <a:ext cx="73850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RECARE progress update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jectives of the mee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52800" y="985320"/>
            <a:ext cx="5960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6666"/>
                </a:solidFill>
                <a:latin typeface="Arial"/>
              </a:rPr>
              <a:t>AIMS </a:t>
            </a: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of the meeti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476360" y="2997360"/>
            <a:ext cx="72057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discuss the preliminary results of data quality che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plan for further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disseminate the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define possible recommendations for rare cancer reg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discuss for a seminar on rare can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News from the European commis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442520" y="2708280"/>
            <a:ext cx="72392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End of the project 1</a:t>
            </a:r>
            <a:r>
              <a:rPr b="0" lang="en-GB" sz="2900" spc="-1" strike="noStrike" baseline="30000">
                <a:solidFill>
                  <a:srgbClr val="000000"/>
                </a:solidFill>
                <a:latin typeface="Verdana"/>
              </a:rPr>
              <a:t>st 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pri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ostpone the end of the project to June 201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ccepted for the WP6 (data quality) on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End of the presenta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Thank you for coming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…</a:t>
            </a: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and enjoy the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6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provide 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definition of “rare cancers”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nd a list of canc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estimate the burden of rare cancers in Euro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To improve the quality of data</a:t>
            </a:r>
            <a:r>
              <a:rPr b="1" lang="it-IT" sz="1700" spc="-1" strike="noStrike">
                <a:solidFill>
                  <a:srgbClr val="990000"/>
                </a:solidFill>
                <a:latin typeface="Verdana"/>
              </a:rPr>
              <a:t> in </a:t>
            </a: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cancer</a:t>
            </a:r>
            <a:r>
              <a:rPr b="1" lang="it-IT" sz="17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regist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develop strategies for the diffusion of information among all the key play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provide figures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ncidence, survival, prevalence and mortality for all rare canc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Data quality will be analysed for a subset of cancers</a:t>
            </a: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web-site on rare cancers will be designed to disseminate resul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Duration: 3 yea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urveillance of rare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ncer in Europ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7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42520" y="2492280"/>
            <a:ext cx="723924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6666"/>
                </a:solidFill>
                <a:latin typeface="Verdana"/>
              </a:rPr>
              <a:t>What we have done until n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4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826920" y="1628640"/>
          <a:ext cx="7739280" cy="4859640"/>
        </p:xfrm>
        <a:graphic>
          <a:graphicData uri="http://schemas.openxmlformats.org/drawingml/2006/table">
            <a:tbl>
              <a:tblPr/>
              <a:tblGrid>
                <a:gridCol w="1922760"/>
                <a:gridCol w="4686120"/>
                <a:gridCol w="11304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liverables and 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Management committee member list and date of the first mee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utes of the meeting with cancer registries available to work on quality analys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6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escription of the project for the we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First interim repor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elease of the web-site to the public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teering Committee member list, 1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meeting, and minutes of the meeting, list of performance indicators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° year of activ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Picture 145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48"/>
          <p:cNvSpPr/>
          <p:nvPr/>
        </p:nvSpPr>
        <p:spPr>
          <a:xfrm>
            <a:off x="54000" y="314172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826920" y="1628640"/>
          <a:ext cx="7739280" cy="5061240"/>
        </p:xfrm>
        <a:graphic>
          <a:graphicData uri="http://schemas.openxmlformats.org/drawingml/2006/table">
            <a:tbl>
              <a:tblPr/>
              <a:tblGrid>
                <a:gridCol w="1922760"/>
                <a:gridCol w="4686120"/>
                <a:gridCol w="11304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liverables and 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WP4 (Li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 of rare canc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18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eting with cancer registries available to work on data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Publication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+ WP5 (indicator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Technical report of the basic/macro indicators of rare cancers and second interim re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WP4 (Li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hort list of rare cancer with high priority  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teering Committee member list, 1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meeting, and minutes of the meeting, list of performance indicators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°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ear of activ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39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1"/>
          <p:cNvSpPr/>
          <p:nvPr/>
        </p:nvSpPr>
        <p:spPr>
          <a:xfrm>
            <a:off x="0" y="306864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52"/>
          <p:cNvSpPr/>
          <p:nvPr/>
        </p:nvSpPr>
        <p:spPr>
          <a:xfrm>
            <a:off x="0" y="227664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84360" y="1628640"/>
          <a:ext cx="7881840" cy="3843360"/>
        </p:xfrm>
        <a:graphic>
          <a:graphicData uri="http://schemas.openxmlformats.org/drawingml/2006/table">
            <a:tbl>
              <a:tblPr/>
              <a:tblGrid>
                <a:gridCol w="2065320"/>
                <a:gridCol w="4686120"/>
                <a:gridCol w="113040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liverables and 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List of scientific meetings for the dissemination of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30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ort on data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30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ion of the first seminar on classification and coding problems addressed to CRs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36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Final re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36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° year of activ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9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3"/>
          <p:cNvSpPr/>
          <p:nvPr/>
        </p:nvSpPr>
        <p:spPr>
          <a:xfrm>
            <a:off x="0" y="306864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54"/>
          <p:cNvSpPr/>
          <p:nvPr/>
        </p:nvSpPr>
        <p:spPr>
          <a:xfrm>
            <a:off x="0" y="386064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Arial"/>
              </a:rPr>
              <a:t>One of the major deliverab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476360" y="2997360"/>
            <a:ext cx="71294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Technical report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with bas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or rare cancers and health care relat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macro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RARECARE paper"/>
          <p:cNvPicPr/>
          <p:nvPr/>
        </p:nvPicPr>
        <p:blipFill>
          <a:blip r:embed="rId1"/>
          <a:stretch/>
        </p:blipFill>
        <p:spPr>
          <a:xfrm>
            <a:off x="6443640" y="44280"/>
            <a:ext cx="242892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cc"/>
                </a:solidFill>
                <a:latin typeface="Arial"/>
              </a:rPr>
              <a:t>RARECARE second year project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SULTS, indicato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42520" y="270828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id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iva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val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rt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croindicators: GDP and TNE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230 rare ent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RARECARE paper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RARECARE paper"/>
          <p:cNvPicPr/>
          <p:nvPr/>
        </p:nvPicPr>
        <p:blipFill>
          <a:blip r:embed="rId2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8:10Z</dcterms:created>
  <dc:creator>Istituto Nazionale Tumori</dc:creator>
  <dc:description/>
  <dc:language>en-US</dc:language>
  <cp:lastModifiedBy>HERON Graeme</cp:lastModifiedBy>
  <dcterms:modified xsi:type="dcterms:W3CDTF">2010-06-16T14:44:15Z</dcterms:modified>
  <cp:revision>11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