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00850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0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54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79320" y="4717800"/>
            <a:ext cx="54403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5128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AAA9-AB86-485A-B928-9891D4A322E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5128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17CD-7A83-4C73-A44F-42204FF85C12}" type="slidenum">
              <a:rPr b="0" lang="it-IT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9320" y="4717800"/>
            <a:ext cx="54403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5128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04C2-8AF3-4319-8A58-893ED77A7AB2}" type="slidenum">
              <a:rPr b="0" lang="it-IT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79320" y="4717800"/>
            <a:ext cx="54403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63AF-ACE6-4723-8F96-D9DEEFEE4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94F3-A7AD-417A-B7C7-A8671779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729B-6EBA-42D4-9278-ADBD385CE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ABA5-DF23-47C6-B74B-353DFF763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1A06-9D7D-4573-B876-21CC240C6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CE09-38C6-4078-8EBD-01590E9B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E4044-B318-4260-9BAA-0BCCFEDA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8C6F-3B78-4A6E-A61B-F660E5D0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7E12-DB0F-4B58-838F-107B23E7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6C65-5EE1-440F-AB7C-FBB0DB3C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D53D-8819-42A6-87E3-1CCFAD03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1EA2-CF35-4DC2-968C-DC01F9B6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6CDB-4C77-4D21-AF63-CC369160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A857D-C3BA-4F03-AB01-186E9335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E776-A3D9-4DF0-B217-BCAEB5A9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9458-E002-4474-80D3-E7971D77B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1C16D-510B-4A0A-AD61-A0059CF27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9F30-D12D-454C-BA2E-A87D83FD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8097-3889-4E0E-99C4-1118C4B7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05A3-5C38-498A-8419-D2FE73DD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FC74-5BE9-4723-94C8-2EDFCC3E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C68E-2126-49A4-AB65-9FD7CC82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921F-160D-4665-B4D4-0301DA1C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F09E-2ED2-4E93-BD85-D7C414F6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2D9C-3211-4698-A61A-589F75DB3B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B619-6446-40B6-90A9-EBDA204BC305}" type="slidenum">
              <a:rPr b="0" lang="en-GB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RARECARE paper"/>
          <p:cNvPicPr/>
          <p:nvPr/>
        </p:nvPicPr>
        <p:blipFill>
          <a:blip r:embed="rId1"/>
          <a:stretch/>
        </p:blipFill>
        <p:spPr>
          <a:xfrm>
            <a:off x="5796000" y="333360"/>
            <a:ext cx="3076560" cy="10540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5"/>
          <p:cNvSpPr/>
          <p:nvPr/>
        </p:nvSpPr>
        <p:spPr>
          <a:xfrm>
            <a:off x="1179360" y="2023920"/>
            <a:ext cx="7385040" cy="40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cc"/>
                </a:solidFill>
                <a:latin typeface="Verdana"/>
              </a:rPr>
              <a:t>RARECARE  project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w resolution data available for rare cancers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dra Deady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RARECARE WP6, 3° meeting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tional Institute of Public Health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saw 25th March 2010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33360" y="131616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66"/>
                </a:solidFill>
                <a:latin typeface="Arial"/>
              </a:rPr>
              <a:t>Sarcomas </a:t>
            </a:r>
            <a:br>
              <a:rPr sz="4800"/>
            </a:br>
            <a:r>
              <a:rPr b="0" lang="en-US" sz="3200" spc="-1" strike="noStrike">
                <a:solidFill>
                  <a:srgbClr val="336666"/>
                </a:solidFill>
                <a:latin typeface="Arial"/>
              </a:rPr>
              <a:t>(26,064 cases in 17 registr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RARECARE paper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2" name="Object 6"/>
          <p:cNvGraphicFramePr/>
          <p:nvPr/>
        </p:nvGraphicFramePr>
        <p:xfrm>
          <a:off x="2340000" y="2935440"/>
          <a:ext cx="5616720" cy="3446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40000" y="2935440"/>
                    <a:ext cx="5616720" cy="34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33360" y="131616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66"/>
                </a:solidFill>
                <a:latin typeface="Arial"/>
              </a:rPr>
              <a:t>GIST </a:t>
            </a:r>
            <a:r>
              <a:rPr b="0" lang="en-US" sz="3200" spc="-1" strike="noStrike">
                <a:solidFill>
                  <a:srgbClr val="336666"/>
                </a:solidFill>
                <a:latin typeface="Arial"/>
              </a:rPr>
              <a:t>(229 cases in 4 registries)</a:t>
            </a:r>
            <a:r>
              <a:rPr b="1" lang="en-US" sz="48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RARECARE paper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" name="Object 6"/>
          <p:cNvGraphicFramePr/>
          <p:nvPr/>
        </p:nvGraphicFramePr>
        <p:xfrm>
          <a:off x="1908000" y="3068640"/>
          <a:ext cx="6702480" cy="2647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8000" y="3068640"/>
                    <a:ext cx="6702480" cy="26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33360" y="131616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66"/>
                </a:solidFill>
                <a:latin typeface="Arial"/>
              </a:rPr>
              <a:t>Liver angiosarcoma</a:t>
            </a:r>
            <a:r>
              <a:rPr b="1" lang="en-US" sz="5400" spc="-1" strike="noStrike">
                <a:solidFill>
                  <a:srgbClr val="336666"/>
                </a:solidFill>
                <a:latin typeface="Arial"/>
              </a:rPr>
              <a:t> </a:t>
            </a:r>
            <a:br>
              <a:rPr sz="5400"/>
            </a:br>
            <a:r>
              <a:rPr b="0" lang="en-US" sz="3200" spc="-1" strike="noStrike">
                <a:solidFill>
                  <a:srgbClr val="336666"/>
                </a:solidFill>
                <a:latin typeface="Arial"/>
              </a:rPr>
              <a:t>(50 cases in 2 registries)</a:t>
            </a:r>
            <a:r>
              <a:rPr b="1" lang="en-US" sz="54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RARECARE paper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Object 5"/>
          <p:cNvGraphicFramePr/>
          <p:nvPr/>
        </p:nvGraphicFramePr>
        <p:xfrm>
          <a:off x="1692360" y="3471840"/>
          <a:ext cx="6476760" cy="1685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2360" y="3471840"/>
                    <a:ext cx="6476760" cy="16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33360" y="131616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66"/>
                </a:solidFill>
                <a:latin typeface="Arial"/>
              </a:rPr>
              <a:t>CNS, glial tumours</a:t>
            </a:r>
            <a:br>
              <a:rPr sz="4800"/>
            </a:br>
            <a:r>
              <a:rPr b="1" lang="en-US" sz="4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6666"/>
                </a:solidFill>
                <a:latin typeface="Arial"/>
              </a:rPr>
              <a:t>(19,962 cases in 12 registries)</a:t>
            </a:r>
            <a:r>
              <a:rPr b="1" lang="en-US" sz="48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3"/>
          <p:cNvGraphicFramePr/>
          <p:nvPr/>
        </p:nvGraphicFramePr>
        <p:xfrm>
          <a:off x="2195640" y="2832120"/>
          <a:ext cx="5832360" cy="376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2832120"/>
                    <a:ext cx="5832360" cy="37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5" name="Picture 4" descr="RARECARE paper"/>
          <p:cNvPicPr/>
          <p:nvPr/>
        </p:nvPicPr>
        <p:blipFill>
          <a:blip r:embed="rId3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33360" y="131616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66"/>
                </a:solidFill>
                <a:latin typeface="Arial"/>
              </a:rPr>
              <a:t>Ovary, germ cell </a:t>
            </a:r>
            <a:r>
              <a:rPr b="0" lang="en-US" sz="3600" spc="-1" strike="noStrike">
                <a:solidFill>
                  <a:srgbClr val="336666"/>
                </a:solidFill>
                <a:latin typeface="Arial"/>
              </a:rPr>
              <a:t>(438 cases in 7 registries)</a:t>
            </a:r>
            <a:r>
              <a:rPr b="1" lang="en-US" sz="54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RARECARE paper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Object 5"/>
          <p:cNvGraphicFramePr/>
          <p:nvPr/>
        </p:nvGraphicFramePr>
        <p:xfrm>
          <a:off x="2050920" y="3068640"/>
          <a:ext cx="6121440" cy="2897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0920" y="3068640"/>
                    <a:ext cx="6121440" cy="28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6666"/>
                </a:solidFill>
                <a:latin typeface="Arial"/>
              </a:rPr>
              <a:t>Oral cavity</a:t>
            </a:r>
            <a:br>
              <a:rPr sz="4200"/>
            </a:br>
            <a:r>
              <a:rPr b="1" lang="en-US" sz="42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336666"/>
                </a:solidFill>
                <a:latin typeface="Arial"/>
              </a:rPr>
              <a:t>(24,885 cases in 14 registries)</a:t>
            </a:r>
            <a:r>
              <a:rPr b="1" lang="en-US" sz="4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5105520" y="1905120"/>
          <a:ext cx="3429000" cy="411480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4114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2" name="Picture 9" descr="RARECARE paper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3" name="Object 10"/>
          <p:cNvGraphicFramePr/>
          <p:nvPr/>
        </p:nvGraphicFramePr>
        <p:xfrm>
          <a:off x="1546200" y="1851120"/>
          <a:ext cx="5473800" cy="4530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4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6200" y="1851120"/>
                    <a:ext cx="547380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6666"/>
                </a:solidFill>
                <a:latin typeface="Arial"/>
              </a:rPr>
              <a:t>Testis, germ cell </a:t>
            </a:r>
            <a:br>
              <a:rPr sz="4600"/>
            </a:br>
            <a:r>
              <a:rPr b="0" lang="en-US" sz="2900" spc="-1" strike="noStrike">
                <a:solidFill>
                  <a:srgbClr val="336666"/>
                </a:solidFill>
                <a:latin typeface="Arial"/>
              </a:rPr>
              <a:t>(8,177 cases in 15 registries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105520" y="1905120"/>
          <a:ext cx="3429000" cy="411480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4114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7" name="Picture 4" descr="RARECARE paper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8" name="Object 235"/>
          <p:cNvGraphicFramePr/>
          <p:nvPr/>
        </p:nvGraphicFramePr>
        <p:xfrm>
          <a:off x="1523880" y="1628640"/>
          <a:ext cx="5784840" cy="4489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9" name="Object 23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628640"/>
                    <a:ext cx="578484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835280" y="1316160"/>
            <a:ext cx="73087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336666"/>
                </a:solidFill>
                <a:latin typeface="Arial"/>
              </a:rPr>
              <a:t>Pleural mesothelioma </a:t>
            </a:r>
            <a:br>
              <a:rPr sz="4800"/>
            </a:br>
            <a:r>
              <a:rPr b="1" lang="en-US" sz="4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6666"/>
                </a:solidFill>
                <a:latin typeface="Arial"/>
              </a:rPr>
              <a:t>(2570 cases in 9 registries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ment data available for 4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RARECARE paper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2" name="Object 5"/>
          <p:cNvGraphicFramePr/>
          <p:nvPr/>
        </p:nvGraphicFramePr>
        <p:xfrm>
          <a:off x="1979640" y="3030480"/>
          <a:ext cx="6337440" cy="3281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3030480"/>
                    <a:ext cx="6337440" cy="32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10640" cy="20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336666"/>
                </a:solidFill>
                <a:latin typeface="Arial"/>
              </a:rPr>
              <a:t>Oral cavity </a:t>
            </a:r>
            <a:br>
              <a:rPr sz="3800"/>
            </a:br>
            <a:r>
              <a:rPr b="1" lang="en-US" sz="3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336666"/>
                </a:solidFill>
                <a:latin typeface="Arial"/>
              </a:rPr>
              <a:t>(6840 cases in 9 registries)</a:t>
            </a:r>
            <a:br>
              <a:rPr sz="2100"/>
            </a:br>
            <a:br>
              <a:rPr sz="2100"/>
            </a:br>
            <a:r>
              <a:rPr b="0" lang="en-US" sz="21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reatment data available 29%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RARECARE paper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6" name="Object 146"/>
          <p:cNvGraphicFramePr/>
          <p:nvPr/>
        </p:nvGraphicFramePr>
        <p:xfrm>
          <a:off x="1042920" y="1844640"/>
          <a:ext cx="7561440" cy="4179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7" name="Object 14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1844640"/>
                    <a:ext cx="7561440" cy="41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3880" y="33336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en-US" sz="4200" spc="-1" strike="noStrike">
                <a:solidFill>
                  <a:srgbClr val="336666"/>
                </a:solidFill>
                <a:latin typeface="Arial"/>
              </a:rPr>
              <a:t>Sarcoma </a:t>
            </a:r>
            <a:br>
              <a:rPr sz="4200"/>
            </a:br>
            <a:r>
              <a:rPr b="1" lang="en-US" sz="42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336666"/>
                </a:solidFill>
                <a:latin typeface="Arial"/>
              </a:rPr>
              <a:t>(7615 cases in 9 registries)</a:t>
            </a: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reatment data available 32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3" descr="RARECARE paper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0" name="Object 5"/>
          <p:cNvGraphicFramePr/>
          <p:nvPr/>
        </p:nvGraphicFramePr>
        <p:xfrm>
          <a:off x="684360" y="2205000"/>
          <a:ext cx="7850160" cy="3764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2205000"/>
                    <a:ext cx="7850160" cy="37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33360" y="131616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66"/>
                </a:solidFill>
                <a:latin typeface="Arial"/>
              </a:rPr>
              <a:t>Low resolution da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0560" y="3188880"/>
            <a:ext cx="655956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the EUROCARE-3 and 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on stage, determinants of stage,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RARECARE paper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835280" y="1316160"/>
            <a:ext cx="73087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336666"/>
                </a:solidFill>
                <a:latin typeface="Arial"/>
              </a:rPr>
              <a:t>GIST and </a:t>
            </a:r>
            <a:br>
              <a:rPr sz="4800"/>
            </a:br>
            <a:r>
              <a:rPr b="1" lang="en-US" sz="4800" spc="-1" strike="noStrike">
                <a:solidFill>
                  <a:srgbClr val="336666"/>
                </a:solidFill>
                <a:latin typeface="Arial"/>
              </a:rPr>
              <a:t> liver angiosarcoma </a:t>
            </a:r>
            <a:br>
              <a:rPr sz="4800"/>
            </a:br>
            <a:r>
              <a:rPr b="1" lang="en-US" sz="4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6666"/>
                </a:solidFill>
                <a:latin typeface="Arial"/>
              </a:rPr>
              <a:t>(80 and 11 cases in 1 registry)</a:t>
            </a:r>
            <a:br>
              <a:rPr sz="3200"/>
            </a:br>
            <a:r>
              <a:rPr b="0" lang="en-US" sz="32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ment data available 73% a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RARECARE paper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4" name="Object 5"/>
          <p:cNvGraphicFramePr/>
          <p:nvPr/>
        </p:nvGraphicFramePr>
        <p:xfrm>
          <a:off x="1116000" y="3284640"/>
          <a:ext cx="8424720" cy="1968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3284640"/>
                    <a:ext cx="842472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3880" y="33336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en-US" sz="4200" spc="-1" strike="noStrike">
                <a:solidFill>
                  <a:srgbClr val="336666"/>
                </a:solidFill>
                <a:latin typeface="Arial"/>
              </a:rPr>
              <a:t>Testis, germ cell </a:t>
            </a:r>
            <a:br>
              <a:rPr sz="4200"/>
            </a:br>
            <a:r>
              <a:rPr b="1" lang="en-US" sz="42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336666"/>
                </a:solidFill>
                <a:latin typeface="Arial"/>
              </a:rPr>
              <a:t>(2519 cases in 9 registries)</a:t>
            </a: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reatment data available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at least in 34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" descr="RARECARE paper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8" name="Object 5"/>
          <p:cNvGraphicFramePr/>
          <p:nvPr/>
        </p:nvGraphicFramePr>
        <p:xfrm>
          <a:off x="1187280" y="1773360"/>
          <a:ext cx="7923240" cy="4101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9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7280" y="1773360"/>
                    <a:ext cx="7923240" cy="41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3880" y="33336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en-US" sz="4200" spc="-1" strike="noStrike">
                <a:solidFill>
                  <a:srgbClr val="336666"/>
                </a:solidFill>
                <a:latin typeface="Arial"/>
              </a:rPr>
              <a:t>Ovary, germ cell </a:t>
            </a:r>
            <a:br>
              <a:rPr sz="4200"/>
            </a:br>
            <a:r>
              <a:rPr b="1" lang="en-US" sz="42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336666"/>
                </a:solidFill>
                <a:latin typeface="Arial"/>
              </a:rPr>
              <a:t>(122 cases in 5 registries)</a:t>
            </a: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reatment data available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at least in 29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" descr="RARECARE paper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2" name="Object 5"/>
          <p:cNvGraphicFramePr/>
          <p:nvPr/>
        </p:nvGraphicFramePr>
        <p:xfrm>
          <a:off x="826920" y="2276640"/>
          <a:ext cx="8425080" cy="2833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2276640"/>
                    <a:ext cx="8425080" cy="28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33360" y="131616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66"/>
                </a:solidFill>
                <a:latin typeface="Arial"/>
              </a:rPr>
              <a:t>CNS, glial tumours</a:t>
            </a:r>
            <a:br>
              <a:rPr sz="5400"/>
            </a:br>
            <a:r>
              <a:rPr b="1" lang="en-US" sz="54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6666"/>
                </a:solidFill>
                <a:latin typeface="Arial"/>
              </a:rPr>
              <a:t>(8071 cases in 9 registries)</a:t>
            </a:r>
            <a:r>
              <a:rPr b="1" lang="en-US" sz="5400" spc="-1" strike="noStrike">
                <a:solidFill>
                  <a:srgbClr val="336666"/>
                </a:solidFill>
                <a:latin typeface="Arial"/>
              </a:rPr>
              <a:t> </a:t>
            </a:r>
            <a:br>
              <a:rPr sz="5400"/>
            </a:br>
            <a:r>
              <a:rPr b="1" lang="en-US" sz="54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eatment data availabl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RARECARE paper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6" name="Object 5"/>
          <p:cNvGraphicFramePr/>
          <p:nvPr/>
        </p:nvGraphicFramePr>
        <p:xfrm>
          <a:off x="2050920" y="3065400"/>
          <a:ext cx="6697800" cy="3346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0920" y="3065400"/>
                    <a:ext cx="6697800" cy="33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RARECARE paper"/>
          <p:cNvPicPr/>
          <p:nvPr/>
        </p:nvPicPr>
        <p:blipFill>
          <a:blip r:embed="rId1"/>
          <a:stretch/>
        </p:blipFill>
        <p:spPr>
          <a:xfrm>
            <a:off x="6227640" y="115920"/>
            <a:ext cx="264492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79640" y="1407600"/>
            <a:ext cx="6624720" cy="14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6666"/>
                </a:solidFill>
                <a:latin typeface="Arial"/>
              </a:rPr>
              <a:t>Further clinical information to be collec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796760" y="3139920"/>
            <a:ext cx="6807240" cy="33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RARECARE paper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5"/>
          <p:cNvSpPr/>
          <p:nvPr/>
        </p:nvSpPr>
        <p:spPr>
          <a:xfrm>
            <a:off x="2771640" y="285264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r>
              <a:rPr b="1" lang="en-US" sz="5100" spc="-1" strike="noStrike">
                <a:solidFill>
                  <a:srgbClr val="336666"/>
                </a:solidFill>
                <a:latin typeface="Arial"/>
              </a:rPr>
              <a:t>Cancers selected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mmon canc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are entiti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igh priority rare canc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5651640" y="1989000"/>
            <a:ext cx="288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6083280" y="2708280"/>
            <a:ext cx="3025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1116000" y="5229360"/>
            <a:ext cx="78501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7" name="Picture 15" descr="RARECARE paper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404640"/>
            <a:ext cx="701064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6666"/>
                </a:solidFill>
                <a:latin typeface="Arial"/>
              </a:rPr>
              <a:t>Cancers selec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5651640" y="1989000"/>
            <a:ext cx="288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6083280" y="2708280"/>
            <a:ext cx="3025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5940360" y="5229360"/>
            <a:ext cx="3025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12" name="Picture 7" descr="RARECARE paper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Object 64"/>
          <p:cNvGraphicFramePr/>
          <p:nvPr/>
        </p:nvGraphicFramePr>
        <p:xfrm>
          <a:off x="465120" y="1859040"/>
          <a:ext cx="8210520" cy="4284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4" name="Object 6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5120" y="1859040"/>
                    <a:ext cx="8210520" cy="42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200" spc="-1" strike="noStrike">
                <a:solidFill>
                  <a:srgbClr val="336666"/>
                </a:solidFill>
                <a:latin typeface="Arial"/>
              </a:rPr>
              <a:t>Microscopically verified cases</a:t>
            </a: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5651640" y="1989000"/>
            <a:ext cx="288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6083280" y="2708280"/>
            <a:ext cx="3025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490920" y="5445000"/>
            <a:ext cx="3025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19" name="Picture 7" descr="RARECARE paper"/>
          <p:cNvPicPr/>
          <p:nvPr/>
        </p:nvPicPr>
        <p:blipFill>
          <a:blip r:embed="rId1"/>
          <a:stretch/>
        </p:blipFill>
        <p:spPr>
          <a:xfrm>
            <a:off x="6877080" y="189000"/>
            <a:ext cx="1995480" cy="6825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40"/>
          <p:cNvSpPr/>
          <p:nvPr/>
        </p:nvSpPr>
        <p:spPr>
          <a:xfrm>
            <a:off x="250920" y="1341360"/>
            <a:ext cx="4392360" cy="5256360"/>
          </a:xfrm>
          <a:prstGeom prst="rect">
            <a:avLst/>
          </a:prstGeom>
          <a:noFill/>
          <a:ln w="9360">
            <a:solidFill>
              <a:srgbClr val="df13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Rectangle 41"/>
          <p:cNvSpPr/>
          <p:nvPr/>
        </p:nvSpPr>
        <p:spPr>
          <a:xfrm>
            <a:off x="4788000" y="2852640"/>
            <a:ext cx="4105080" cy="1871640"/>
          </a:xfrm>
          <a:prstGeom prst="rect">
            <a:avLst/>
          </a:prstGeom>
          <a:noFill/>
          <a:ln w="9360">
            <a:solidFill>
              <a:srgbClr val="99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22" name="Object 43"/>
          <p:cNvGraphicFramePr/>
          <p:nvPr/>
        </p:nvGraphicFramePr>
        <p:xfrm>
          <a:off x="4932360" y="2725560"/>
          <a:ext cx="4032360" cy="2016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3" name="Object 4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32360" y="2725560"/>
                    <a:ext cx="403236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106"/>
          <p:cNvGraphicFramePr/>
          <p:nvPr/>
        </p:nvGraphicFramePr>
        <p:xfrm>
          <a:off x="426960" y="1557360"/>
          <a:ext cx="4289400" cy="48960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25" name="Object 10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6960" y="1557360"/>
                    <a:ext cx="428940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3200" spc="-1" strike="noStrike">
                <a:solidFill>
                  <a:srgbClr val="336666"/>
                </a:solidFill>
                <a:latin typeface="Arial"/>
              </a:rPr>
              <a:t>Availability of tumour stage dat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3"/>
          <p:cNvGraphicFramePr/>
          <p:nvPr/>
        </p:nvGraphicFramePr>
        <p:xfrm>
          <a:off x="2263680" y="1325520"/>
          <a:ext cx="5046840" cy="536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3680" y="1325520"/>
                    <a:ext cx="5046840" cy="53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Rectangle 4"/>
          <p:cNvSpPr/>
          <p:nvPr/>
        </p:nvSpPr>
        <p:spPr>
          <a:xfrm>
            <a:off x="5651640" y="1989000"/>
            <a:ext cx="288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6083280" y="2708280"/>
            <a:ext cx="3025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3490920" y="5445000"/>
            <a:ext cx="3025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2" name="Picture 7" descr="RARECARE paper"/>
          <p:cNvPicPr/>
          <p:nvPr/>
        </p:nvPicPr>
        <p:blipFill>
          <a:blip r:embed="rId3"/>
          <a:stretch/>
        </p:blipFill>
        <p:spPr>
          <a:xfrm>
            <a:off x="6877080" y="189000"/>
            <a:ext cx="199548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3200" spc="-1" strike="noStrike">
                <a:solidFill>
                  <a:srgbClr val="336666"/>
                </a:solidFill>
                <a:latin typeface="Arial"/>
              </a:rPr>
              <a:t>% staged (EOD) by registry </a:t>
            </a:r>
            <a:br>
              <a:rPr sz="3200"/>
            </a:br>
            <a:r>
              <a:rPr b="1" lang="en-GB" sz="3200" spc="-1" strike="noStrike">
                <a:solidFill>
                  <a:srgbClr val="336666"/>
                </a:solidFill>
                <a:latin typeface="Arial"/>
              </a:rPr>
              <a:t>and tumour (common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5651640" y="1989000"/>
            <a:ext cx="288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6083280" y="2708280"/>
            <a:ext cx="3025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3490920" y="5445000"/>
            <a:ext cx="3025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7" name="Picture 7" descr="RARECARE paper"/>
          <p:cNvPicPr/>
          <p:nvPr/>
        </p:nvPicPr>
        <p:blipFill>
          <a:blip r:embed="rId1"/>
          <a:stretch/>
        </p:blipFill>
        <p:spPr>
          <a:xfrm>
            <a:off x="6877080" y="189000"/>
            <a:ext cx="1995480" cy="68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Object 9"/>
          <p:cNvGraphicFramePr/>
          <p:nvPr/>
        </p:nvGraphicFramePr>
        <p:xfrm>
          <a:off x="684360" y="1557360"/>
          <a:ext cx="7632720" cy="4691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9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1557360"/>
                    <a:ext cx="7632720" cy="46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r>
              <a:rPr b="1" lang="en-GB" sz="4200" spc="-1" strike="noStrike">
                <a:solidFill>
                  <a:srgbClr val="336666"/>
                </a:solidFill>
                <a:latin typeface="Arial"/>
              </a:rPr>
              <a:t>% staged (EOD) </a:t>
            </a:r>
            <a:br>
              <a:rPr sz="4200"/>
            </a:br>
            <a:r>
              <a:rPr b="1" lang="en-GB" sz="4200" spc="-1" strike="noStrike">
                <a:solidFill>
                  <a:srgbClr val="336666"/>
                </a:solidFill>
                <a:latin typeface="Arial"/>
              </a:rPr>
              <a:t>by registry </a:t>
            </a:r>
            <a:br>
              <a:rPr sz="4200"/>
            </a:br>
            <a:r>
              <a:rPr b="1" lang="en-GB" sz="4200" spc="-1" strike="noStrike">
                <a:solidFill>
                  <a:srgbClr val="336666"/>
                </a:solidFill>
                <a:latin typeface="Arial"/>
              </a:rPr>
              <a:t>and rare tumou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Short l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5651640" y="1989000"/>
            <a:ext cx="288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6083280" y="2708280"/>
            <a:ext cx="3025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3490920" y="5445000"/>
            <a:ext cx="3025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5" name="Picture 6" descr="RARECARE paper"/>
          <p:cNvPicPr/>
          <p:nvPr/>
        </p:nvPicPr>
        <p:blipFill>
          <a:blip r:embed="rId1"/>
          <a:stretch/>
        </p:blipFill>
        <p:spPr>
          <a:xfrm>
            <a:off x="6877080" y="189000"/>
            <a:ext cx="199548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35280" y="1316160"/>
            <a:ext cx="73087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66"/>
                </a:solidFill>
                <a:latin typeface="Arial"/>
              </a:rPr>
              <a:t>Pleural mesothelioma </a:t>
            </a:r>
            <a:br>
              <a:rPr sz="4800"/>
            </a:br>
            <a:r>
              <a:rPr b="0" lang="en-US" sz="3200" spc="-1" strike="noStrike">
                <a:solidFill>
                  <a:srgbClr val="336666"/>
                </a:solidFill>
                <a:latin typeface="Arial"/>
              </a:rPr>
              <a:t>(4424 cases in 11 registr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RARECARE paper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Object 103"/>
          <p:cNvGraphicFramePr/>
          <p:nvPr/>
        </p:nvGraphicFramePr>
        <p:xfrm>
          <a:off x="2050920" y="3057480"/>
          <a:ext cx="6697800" cy="3362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9" name="Object 10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0920" y="3057480"/>
                    <a:ext cx="6697800" cy="33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13:28:10Z</dcterms:created>
  <dc:creator>Istituto Nazionale Tumori</dc:creator>
  <dc:description/>
  <dc:language>en-US</dc:language>
  <cp:lastModifiedBy>HERON Graeme</cp:lastModifiedBy>
  <dcterms:modified xsi:type="dcterms:W3CDTF">2010-06-16T14:46:54Z</dcterms:modified>
  <cp:revision>22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