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4780-391B-45D0-B211-62E69EFBAA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0157-FC2D-4D57-B41D-F0F3F5726AE4}" type="slidenum">
              <a:rPr b="0" lang="it-IT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278-CB08-48C7-85E1-537A985A9127}" type="slidenum">
              <a:rPr b="0" lang="it-IT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B21-3EEA-488F-99FF-3333EB89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D7F-1135-4CFF-945F-2A366E30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43B-68E3-4372-8480-0842E568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4C-8106-47F4-BD7C-D9B883A6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9285-051C-4FCC-8C03-08D80C09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B2BF-A57F-4C73-8BA5-1DE2B3B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31A2-D582-4C5E-BD44-36C4F531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96B-98C2-4590-AFAF-666EF190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907A-AC20-47EB-A5F1-F07ED23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D40-41DF-4CB3-A397-F4C6E84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1DB-73C5-4E32-AE54-4B8236E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071-829D-4794-9889-ADC61C76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E47-84D6-435D-9AA7-BB00B2B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289-969C-47C7-8E23-3C2F4EB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EE81-65C1-47D8-B366-8E623A3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358-34B8-4D95-B7BE-5EB690BA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D6BC-A81E-4350-94B6-B7B15DAA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7C3-C303-4228-BDDD-B8E8EF78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1D1-3DDF-42AB-A0FD-260AA98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873-243F-4ECE-ABE7-CDCC7D7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513-716B-4D28-88C6-7B644E5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856-961C-437F-9C78-D4586A3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0DB-7BAC-445B-AD8C-56C3811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555-3F5E-430A-8670-F71AAB9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1E7-FDF4-4951-AF5D-A46FECA00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849A-7816-40EB-9598-CB44233A0D92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1179360" y="2023920"/>
            <a:ext cx="7385040" cy="40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cc"/>
                </a:solidFill>
                <a:latin typeface="Verdana"/>
              </a:rPr>
              <a:t>RARECARE  project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w resolution data available for rare cancer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ra Deady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RARECARE WP6, 3° meetin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Institute of Public Health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aw 25th March 201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Sarcomas </a:t>
            </a:r>
            <a:br>
              <a:rPr sz="48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6,064 cases in 17 regi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6"/>
          <p:cNvGraphicFramePr/>
          <p:nvPr/>
        </p:nvGraphicFramePr>
        <p:xfrm>
          <a:off x="2340000" y="2935440"/>
          <a:ext cx="5616720" cy="344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935440"/>
                    <a:ext cx="561672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GIST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29 cases in 4 registries)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6"/>
          <p:cNvGraphicFramePr/>
          <p:nvPr/>
        </p:nvGraphicFramePr>
        <p:xfrm>
          <a:off x="1908000" y="3068640"/>
          <a:ext cx="6702480" cy="264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068640"/>
                    <a:ext cx="6702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Liver angiosarcoma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50 cases in 2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5"/>
          <p:cNvGraphicFramePr/>
          <p:nvPr/>
        </p:nvGraphicFramePr>
        <p:xfrm>
          <a:off x="1692360" y="3471840"/>
          <a:ext cx="6476760" cy="16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471840"/>
                    <a:ext cx="64767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CNS, glial tumours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19,962 cases in 12 registries)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195640" y="2832120"/>
          <a:ext cx="5832360" cy="37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832120"/>
                    <a:ext cx="58323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4" descr="RARECARE paper"/>
          <p:cNvPicPr/>
          <p:nvPr/>
        </p:nvPicPr>
        <p:blipFill>
          <a:blip r:embed="rId3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Ovary, germ cell </a:t>
            </a: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(438 cases in 7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5"/>
          <p:cNvGraphicFramePr/>
          <p:nvPr/>
        </p:nvGraphicFramePr>
        <p:xfrm>
          <a:off x="2050920" y="3068640"/>
          <a:ext cx="6121440" cy="28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68640"/>
                    <a:ext cx="612144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Oral cavity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24,885 cases in 14 registries)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05520" y="1905120"/>
          <a:ext cx="3429000" cy="4114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9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10"/>
          <p:cNvGraphicFramePr/>
          <p:nvPr/>
        </p:nvGraphicFramePr>
        <p:xfrm>
          <a:off x="1546200" y="1851120"/>
          <a:ext cx="5473800" cy="453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1851120"/>
                    <a:ext cx="5473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6666"/>
                </a:solidFill>
                <a:latin typeface="Arial"/>
              </a:rPr>
              <a:t>Testis, germ cell </a:t>
            </a:r>
            <a:br>
              <a:rPr sz="4600"/>
            </a:br>
            <a:r>
              <a:rPr b="0" lang="en-US" sz="2900" spc="-1" strike="noStrike">
                <a:solidFill>
                  <a:srgbClr val="336666"/>
                </a:solidFill>
                <a:latin typeface="Arial"/>
              </a:rPr>
              <a:t>(8,177 cases in 15 registrie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105520" y="1905120"/>
          <a:ext cx="3429000" cy="4114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235"/>
          <p:cNvGraphicFramePr/>
          <p:nvPr/>
        </p:nvGraphicFramePr>
        <p:xfrm>
          <a:off x="1523880" y="1628640"/>
          <a:ext cx="5784840" cy="448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2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28640"/>
                    <a:ext cx="578484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Pleural mesothelioma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570 cases in 9 registries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ata available for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5"/>
          <p:cNvGraphicFramePr/>
          <p:nvPr/>
        </p:nvGraphicFramePr>
        <p:xfrm>
          <a:off x="1979640" y="3030480"/>
          <a:ext cx="6337440" cy="328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030480"/>
                    <a:ext cx="633744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20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Oral cavity </a:t>
            </a:r>
            <a:br>
              <a:rPr sz="3800"/>
            </a:b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(6840 cases in 9 registries)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eatment data available 29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146"/>
          <p:cNvGraphicFramePr/>
          <p:nvPr/>
        </p:nvGraphicFramePr>
        <p:xfrm>
          <a:off x="1042920" y="1844640"/>
          <a:ext cx="7561440" cy="41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1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44640"/>
                    <a:ext cx="756144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Sarcoma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7615 cases in 9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3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5"/>
          <p:cNvGraphicFramePr/>
          <p:nvPr/>
        </p:nvGraphicFramePr>
        <p:xfrm>
          <a:off x="684360" y="2205000"/>
          <a:ext cx="7850160" cy="376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785016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Low resolution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560" y="3188880"/>
            <a:ext cx="6559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EUROCARE-3 and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on stage, determinants of stage,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GIST and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liver angiosarcoma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80 and 11 cases in 1 registry)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ata available 73% 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5"/>
          <p:cNvGraphicFramePr/>
          <p:nvPr/>
        </p:nvGraphicFramePr>
        <p:xfrm>
          <a:off x="1116000" y="3284640"/>
          <a:ext cx="8424720" cy="196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84640"/>
                    <a:ext cx="8424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Testis, germ cell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2519 cases in 9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least in 3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Object 5"/>
          <p:cNvGraphicFramePr/>
          <p:nvPr/>
        </p:nvGraphicFramePr>
        <p:xfrm>
          <a:off x="1187280" y="1773360"/>
          <a:ext cx="7923240" cy="410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773360"/>
                    <a:ext cx="792324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Ovary, germ cell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122 cases in 5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least in 2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5"/>
          <p:cNvGraphicFramePr/>
          <p:nvPr/>
        </p:nvGraphicFramePr>
        <p:xfrm>
          <a:off x="826920" y="2276640"/>
          <a:ext cx="8425080" cy="283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276640"/>
                    <a:ext cx="84250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CNS, glial tumours</a:t>
            </a:r>
            <a:br>
              <a:rPr sz="5400"/>
            </a:b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(8071 cases in 9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Object 5"/>
          <p:cNvGraphicFramePr/>
          <p:nvPr/>
        </p:nvGraphicFramePr>
        <p:xfrm>
          <a:off x="2050920" y="3065400"/>
          <a:ext cx="669780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65400"/>
                    <a:ext cx="66978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ARECARE paper"/>
          <p:cNvPicPr/>
          <p:nvPr/>
        </p:nvPicPr>
        <p:blipFill>
          <a:blip r:embed="rId1"/>
          <a:stretch/>
        </p:blipFill>
        <p:spPr>
          <a:xfrm>
            <a:off x="6227640" y="11592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79640" y="1407600"/>
            <a:ext cx="662472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Further clinical information to be col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96760" y="3139920"/>
            <a:ext cx="68072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en-US" sz="5100" spc="-1" strike="noStrike">
                <a:solidFill>
                  <a:srgbClr val="336666"/>
                </a:solidFill>
                <a:latin typeface="Arial"/>
              </a:rPr>
              <a:t>Cancers selected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ca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re ent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priority rare ca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16000" y="5229360"/>
            <a:ext cx="7850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7" name="Picture 15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404640"/>
            <a:ext cx="7010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Cancers sel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7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64"/>
          <p:cNvGraphicFramePr/>
          <p:nvPr/>
        </p:nvGraphicFramePr>
        <p:xfrm>
          <a:off x="465120" y="1859040"/>
          <a:ext cx="8210520" cy="42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6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859040"/>
                    <a:ext cx="82105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Microscopically verified cases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9" name="Picture 7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0"/>
          <p:cNvSpPr/>
          <p:nvPr/>
        </p:nvSpPr>
        <p:spPr>
          <a:xfrm>
            <a:off x="250920" y="1341360"/>
            <a:ext cx="4392360" cy="5256360"/>
          </a:xfrm>
          <a:prstGeom prst="rect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4788000" y="2852640"/>
            <a:ext cx="4105080" cy="187164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2" name="Object 43"/>
          <p:cNvGraphicFramePr/>
          <p:nvPr/>
        </p:nvGraphicFramePr>
        <p:xfrm>
          <a:off x="4932360" y="2725560"/>
          <a:ext cx="4032360" cy="20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725560"/>
                    <a:ext cx="4032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6"/>
          <p:cNvGraphicFramePr/>
          <p:nvPr/>
        </p:nvGraphicFramePr>
        <p:xfrm>
          <a:off x="426960" y="1557360"/>
          <a:ext cx="4289400" cy="489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5" name="Object 10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960" y="1557360"/>
                    <a:ext cx="42894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vailability of tumour stage da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263680" y="1325520"/>
          <a:ext cx="5046840" cy="53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1325520"/>
                    <a:ext cx="5046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2" name="Picture 7" descr="RARECARE paper"/>
          <p:cNvPicPr/>
          <p:nvPr/>
        </p:nvPicPr>
        <p:blipFill>
          <a:blip r:embed="rId3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% staged (EOD) by registry </a:t>
            </a:r>
            <a:br>
              <a:rPr sz="32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nd tumour (common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7" name="Picture 7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9"/>
          <p:cNvGraphicFramePr/>
          <p:nvPr/>
        </p:nvGraphicFramePr>
        <p:xfrm>
          <a:off x="684360" y="1557360"/>
          <a:ext cx="7632720" cy="469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763272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% staged (EOD) </a:t>
            </a:r>
            <a:br>
              <a:rPr sz="42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by registry </a:t>
            </a:r>
            <a:br>
              <a:rPr sz="42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and rare tum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hort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5" name="Picture 6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Pleural mesothelioma </a:t>
            </a:r>
            <a:br>
              <a:rPr sz="48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4424 cases in 11 regi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103"/>
          <p:cNvGraphicFramePr/>
          <p:nvPr/>
        </p:nvGraphicFramePr>
        <p:xfrm>
          <a:off x="2050920" y="3057480"/>
          <a:ext cx="669780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Object 10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57480"/>
                    <a:ext cx="6697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6:54Z</dcterms:modified>
  <cp:revision>2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